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22.jpeg" ContentType="image/jpeg"/>
  <Override PartName="/ppt/media/image7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5465-4AFE-4ABF-B56F-37FE1CDBFF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6CA8-BC1D-49DF-9879-C415C53ED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EC5-DFC1-407C-9E51-A6F1A147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31A-A948-4C74-A6B8-1EA3253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91C-3687-49A4-91A4-50943D98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F4F-D3D8-4D91-BE47-2EA3718F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322-1A3B-4B31-B598-0791D7D8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BB36-3143-4D8D-883D-7E25266E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2217-CFE9-431E-AD84-E2B4DAB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68C-993D-4395-BF94-BCABD40B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0C11-CE6A-4F0B-9EE4-96442E7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99E-92F9-48FC-BA7A-6211922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089-CA7D-4700-9522-39E8096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DC5-CB76-4C9E-A0FB-467A700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A51-063B-4DB7-8C02-5E405C1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682F-6E7A-4C33-8099-FC1B61E4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1E20-D2EA-4F6F-BAED-5A22346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E374-6A8C-452F-9F0D-7F36CDDF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5E4-E289-4BF6-BBC5-F652F2BC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B00-0884-4AF1-ACBF-80976680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A4F-7C24-4F70-B13B-559AFB5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58E-9990-486F-B3B5-577587D2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893-C3AC-4536-ADD2-8DEB785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9CE-8E54-4D59-B5C4-44D6D9D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B7D-76E4-4F09-81F6-EDBC9AA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457-30E0-49AD-8CBE-56031D85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4F0-1858-4626-A239-9E6F41098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4AC8-662E-4B4B-A36C-69AF88FCB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0590&amp;date=06.05.2022&amp;dst=100028&amp;field=134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2538&amp;date=06.05.2022&amp;dst=100009&amp;field=134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84981&amp;date=06.05.2022&amp;dst=100290&amp;field=134" TargetMode="External"/><Relationship Id="rId3" Type="http://schemas.openxmlformats.org/officeDocument/2006/relationships/hyperlink" Target="https://login.consultant.ru/link/?req=doc&amp;base=LAW&amp;n=401543&amp;date=06.05.2022" TargetMode="External"/><Relationship Id="rId4" Type="http://schemas.openxmlformats.org/officeDocument/2006/relationships/hyperlink" Target="https://login.consultant.ru/link/?req=doc&amp;base=LAW&amp;n=384981&amp;date=06.05.2022&amp;dst=100265&amp;field=134" TargetMode="External"/><Relationship Id="rId5" Type="http://schemas.openxmlformats.org/officeDocument/2006/relationships/hyperlink" Target="https://login.consultant.ru/link/?req=doc&amp;base=LAW&amp;n=384981&amp;date=06.05.2022&amp;dst=100209&amp;field=134" TargetMode="External"/><Relationship Id="rId6" Type="http://schemas.openxmlformats.org/officeDocument/2006/relationships/hyperlink" Target="https://login.consultant.ru/link/?req=doc&amp;base=LAW&amp;n=401543&amp;date=06.05.2022&amp;dst=100053&amp;field=134" TargetMode="External"/><Relationship Id="rId7" Type="http://schemas.openxmlformats.org/officeDocument/2006/relationships/hyperlink" Target="https://login.consultant.ru/link/?req=doc&amp;base=LAW&amp;n=401543&amp;date=06.05.2022&amp;dst=100086&amp;field=134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1543&amp;date=06.05.2022&amp;dst=100104&amp;field=134" TargetMode="External"/><Relationship Id="rId3" Type="http://schemas.openxmlformats.org/officeDocument/2006/relationships/hyperlink" Target="https://login.consultant.ru/link/?req=doc&amp;base=LAW&amp;n=401543&amp;date=06.05.2022&amp;dst=100112&amp;field=134" TargetMode="External"/><Relationship Id="rId4" Type="http://schemas.openxmlformats.org/officeDocument/2006/relationships/hyperlink" Target="https://login.consultant.ru/link/?req=doc&amp;base=LAW&amp;n=401543&amp;date=06.05.2022&amp;dst=100113&amp;field=134" TargetMode="External"/><Relationship Id="rId5" Type="http://schemas.openxmlformats.org/officeDocument/2006/relationships/hyperlink" Target="https://login.consultant.ru/link/?req=doc&amp;base=LAW&amp;n=369116&amp;date=06.05.2022&amp;dst=100034&amp;field=134" TargetMode="External"/><Relationship Id="rId6" Type="http://schemas.openxmlformats.org/officeDocument/2006/relationships/hyperlink" Target="https://login.consultant.ru/link/?req=doc&amp;base=LAW&amp;n=384981&amp;date=06.05.2022&amp;dst=100257&amp;field=134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0712&amp;date=25.02.2022&amp;dst=100009&amp;field=134" TargetMode="External"/><Relationship Id="rId3" Type="http://schemas.openxmlformats.org/officeDocument/2006/relationships/hyperlink" Target="https://login.consultant.ru/link/?req=doc&amp;base=LAW&amp;n=400712&amp;date=25.02.2022&amp;dst=100009&amp;field=134" TargetMode="External"/><Relationship Id="rId4" Type="http://schemas.openxmlformats.org/officeDocument/2006/relationships/hyperlink" Target="https://login.consultant.ru/link/?req=doc&amp;base=LAW&amp;n=400713&amp;date=25.02.2022&amp;dst=100014&amp;field=134" TargetMode="External"/><Relationship Id="rId5" Type="http://schemas.openxmlformats.org/officeDocument/2006/relationships/hyperlink" Target="https://login.consultant.ru/link/?req=doc&amp;base=LAW&amp;n=400713&amp;date=25.02.2022&amp;dst=100012&amp;field=134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78677&amp;date=25.02.2022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11952&amp;date=06.05.2022&amp;dst=100010&amp;field=134" TargetMode="External"/><Relationship Id="rId3" Type="http://schemas.openxmlformats.org/officeDocument/2006/relationships/hyperlink" Target="https://login.consultant.ru/link/?req=doc&amp;base=LAW&amp;n=411952&amp;date=06.05.2022&amp;dst=100011&amp;field=134" TargetMode="External"/><Relationship Id="rId4" Type="http://schemas.openxmlformats.org/officeDocument/2006/relationships/hyperlink" Target="https://login.consultant.ru/link/?req=doc&amp;base=LAW&amp;n=411952&amp;date=06.05.2022&amp;dst=100112&amp;field=134" TargetMode="External"/><Relationship Id="rId5" Type="http://schemas.openxmlformats.org/officeDocument/2006/relationships/hyperlink" Target="https://login.consultant.ru/link/?req=doc&amp;base=LAW&amp;n=411952&amp;date=06.05.2022&amp;dst=100099&amp;field=134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5064&amp;date=06.05.2022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91463&amp;date=25.02.2022" TargetMode="External"/><Relationship Id="rId3" Type="http://schemas.openxmlformats.org/officeDocument/2006/relationships/hyperlink" Target="https://login.consultant.ru/link/?req=doc&amp;base=LAW&amp;n=391463&amp;date=25.02.2022&amp;dst=100108&amp;field=134" TargetMode="External"/><Relationship Id="rId4" Type="http://schemas.openxmlformats.org/officeDocument/2006/relationships/hyperlink" Target="https://login.consultant.ru/link/?req=doc&amp;base=LAW&amp;n=391463&amp;date=25.02.2022&amp;dst=100061&amp;field=134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10386&amp;date=06.05.2022&amp;dst=100007&amp;field=134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97472&amp;date=25.02.2022&amp;dst=100080&amp;field=134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12153&amp;date=06.05.2022" TargetMode="External"/><Relationship Id="rId3" Type="http://schemas.openxmlformats.org/officeDocument/2006/relationships/hyperlink" Target="https://login.consultant.ru/link/?req=doc&amp;base=LAW&amp;n=412153&amp;date=06.05.2022&amp;dst=100024&amp;field=134" TargetMode="External"/><Relationship Id="rId4" Type="http://schemas.openxmlformats.org/officeDocument/2006/relationships/hyperlink" Target="https://login.consultant.ru/link/?req=doc&amp;base=LAW&amp;n=412153&amp;date=06.05.2022&amp;dst=100048&amp;field=134" TargetMode="External"/><Relationship Id="rId5" Type="http://schemas.openxmlformats.org/officeDocument/2006/relationships/hyperlink" Target="https://login.consultant.ru/link/?req=doc&amp;base=LAW&amp;n=412153&amp;date=06.05.2022&amp;dst=100053&amp;field=134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88474&amp;date=06.05.2022&amp;dst=100167&amp;field=134" TargetMode="External"/><Relationship Id="rId3" Type="http://schemas.openxmlformats.org/officeDocument/2006/relationships/hyperlink" Target="https://login.consultant.ru/link/?req=doc&amp;base=LAW&amp;n=406146&amp;date=06.05.2022&amp;dst=100010&amp;field=134" TargetMode="External"/><Relationship Id="rId4" Type="http://schemas.openxmlformats.org/officeDocument/2006/relationships/hyperlink" Target="https://login.consultant.ru/link/?req=doc&amp;base=LAW&amp;n=394333&amp;date=06.05.2022&amp;dst=832&amp;field=134" TargetMode="External"/><Relationship Id="rId5" Type="http://schemas.openxmlformats.org/officeDocument/2006/relationships/hyperlink" Target="https://login.consultant.ru/link/?req=doc&amp;base=LAW&amp;n=394333&amp;date=06.05.2022&amp;dst=100194&amp;field=134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81376&amp;date=25.02.2022" TargetMode="External"/><Relationship Id="rId3" Type="http://schemas.openxmlformats.org/officeDocument/2006/relationships/hyperlink" Target="https://login.consultant.ru/link/?req=doc&amp;base=LAW&amp;n=407610&amp;date=06.05.2022&amp;dst=100059&amp;field=134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s://login.consultant.ru/link/?req=doc&amp;base=LAW&amp;n=331608&amp;date=25.02.2022" TargetMode="External"/><Relationship Id="rId5" Type="http://schemas.openxmlformats.org/officeDocument/2006/relationships/hyperlink" Target="https://login.consultant.ru/link/?req=doc&amp;base=LAW&amp;n=392096&amp;date=06.05.2022&amp;dst=4&amp;field=134" TargetMode="External"/><Relationship Id="rId6" Type="http://schemas.openxmlformats.org/officeDocument/2006/relationships/hyperlink" Target="https://login.consultant.ru/link/?req=doc&amp;base=LAW&amp;n=392096&amp;date=06.05.2022&amp;dst=10&amp;field=134" TargetMode="External"/><Relationship Id="rId7" Type="http://schemas.openxmlformats.org/officeDocument/2006/relationships/hyperlink" Target="https://login.consultant.ru/link/?req=doc&amp;base=LAW&amp;n=392096&amp;date=06.05.2022&amp;dst=14&amp;field=134" TargetMode="External"/><Relationship Id="rId8" Type="http://schemas.openxmlformats.org/officeDocument/2006/relationships/hyperlink" Target="https://login.consultant.ru/link/?req=doc&amp;base=LAW&amp;n=331608&amp;date=25.02.2022" TargetMode="External"/><Relationship Id="rId9" Type="http://schemas.openxmlformats.org/officeDocument/2006/relationships/hyperlink" Target="https://login.consultant.ru/link/?req=doc&amp;base=LAW&amp;n=332058&amp;date=25.02.2022&amp;dst=100005&amp;field=134" TargetMode="External"/><Relationship Id="rId10" Type="http://schemas.openxmlformats.org/officeDocument/2006/relationships/hyperlink" Target="https://login.consultant.ru/link/?req=doc&amp;base=LAW&amp;n=331608&amp;date=25.02.2022&amp;dst=100316&amp;field=134" TargetMode="External"/><Relationship Id="rId11" Type="http://schemas.openxmlformats.org/officeDocument/2006/relationships/hyperlink" Target="https://login.consultant.ru/link/?req=doc&amp;base=LAW&amp;n=331608&amp;date=25.02.2022&amp;dst=100325&amp;field=134" TargetMode="External"/><Relationship Id="rId12" Type="http://schemas.openxmlformats.org/officeDocument/2006/relationships/hyperlink" Target="https://login.consultant.ru/link/?req=doc&amp;base=LAW&amp;n=401226&amp;date=06.05.2022&amp;dst=100010&amp;field=134" TargetMode="External"/><Relationship Id="rId13" Type="http://schemas.openxmlformats.org/officeDocument/2006/relationships/hyperlink" Target="https://login.consultant.ru/link/?req=doc&amp;base=LAW&amp;n=401226&amp;date=06.05.2022&amp;dst=100018&amp;field=134" TargetMode="External"/><Relationship Id="rId14" Type="http://schemas.openxmlformats.org/officeDocument/2006/relationships/hyperlink" Target="https://login.consultant.ru/link/?req=doc&amp;base=LAW&amp;n=401226&amp;date=06.05.2022&amp;dst=100020&amp;field=134" TargetMode="External"/><Relationship Id="rId15" Type="http://schemas.openxmlformats.org/officeDocument/2006/relationships/hyperlink" Target="https://login.consultant.ru/link/?req=doc&amp;base=LAW&amp;n=401226&amp;date=06.05.2022&amp;dst=100022&amp;field=134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89002&amp;dst=100445&amp;field=134&amp;date=06.05.2022" TargetMode="External"/><Relationship Id="rId3" Type="http://schemas.openxmlformats.org/officeDocument/2006/relationships/hyperlink" Target="https://login.consultant.ru/link/?req=doc&amp;base=LAW&amp;n=391821&amp;date=06.05.2022&amp;dst=100018&amp;field=134" TargetMode="External"/><Relationship Id="rId4" Type="http://schemas.openxmlformats.org/officeDocument/2006/relationships/hyperlink" Target="https://login.consultant.ru/link/?req=doc&amp;base=LAW&amp;n=391821&amp;date=06.05.2022&amp;dst=100042&amp;field=134" TargetMode="External"/><Relationship Id="rId5" Type="http://schemas.openxmlformats.org/officeDocument/2006/relationships/hyperlink" Target="https://login.consultant.ru/link/?req=doc&amp;base=LAW&amp;n=401279&amp;date=06.05.2022&amp;dst=100010&amp;field=134" TargetMode="External"/><Relationship Id="rId6" Type="http://schemas.openxmlformats.org/officeDocument/2006/relationships/hyperlink" Target="https://login.consultant.ru/link/?req=doc&amp;base=LAW&amp;n=401350&amp;date=06.05.2022&amp;dst=100010&amp;field=134" TargetMode="External"/><Relationship Id="rId7" Type="http://schemas.openxmlformats.org/officeDocument/2006/relationships/hyperlink" Target="https://login.consultant.ru/link/?req=doc&amp;base=LAW&amp;n=402031&amp;date=06.05.2022&amp;dst=100011&amp;field=134" TargetMode="External"/><Relationship Id="rId8" Type="http://schemas.openxmlformats.org/officeDocument/2006/relationships/hyperlink" Target="https://login.consultant.ru/link/?req=doc&amp;base=LAW&amp;n=402317&amp;date=06.05.2022&amp;dst=100010&amp;field=134" TargetMode="External"/><Relationship Id="rId9" Type="http://schemas.openxmlformats.org/officeDocument/2006/relationships/hyperlink" Target="https://login.consultant.ru/link/?req=doc&amp;base=LAW&amp;n=403334&amp;date=06.05.2022" TargetMode="External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91821&amp;dst=100014&amp;field=134&amp;date=06.05.2022" TargetMode="External"/><Relationship Id="rId3" Type="http://schemas.openxmlformats.org/officeDocument/2006/relationships/hyperlink" Target="https://login.consultant.ru/link/?req=doc&amp;base=LAW&amp;n=391821&amp;dst=100014&amp;field=134&amp;date=06.05.2022" TargetMode="External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2031&amp;dst=100008&amp;field=134&amp;date=06.05.2022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1350&amp;dst=100007&amp;field=134&amp;date=06.05.2022" TargetMode="External"/><Relationship Id="rId3" Type="http://schemas.openxmlformats.org/officeDocument/2006/relationships/hyperlink" Target="https://login.consultant.ru/link/?req=doc&amp;base=LAW&amp;n=401350&amp;dst=100007&amp;field=134&amp;date=06.05.2022" TargetMode="External"/><Relationship Id="rId4" Type="http://schemas.openxmlformats.org/officeDocument/2006/relationships/hyperlink" Target="https://login.consultant.ru/link/?req=doc&amp;base=LAW&amp;n=411951&amp;dst=100006&amp;field=134&amp;date=06.05.2022" TargetMode="External"/><Relationship Id="rId5" Type="http://schemas.openxmlformats.org/officeDocument/2006/relationships/hyperlink" Target="https://login.consultant.ru/link/?req=doc&amp;base=LAW&amp;n=411951&amp;date=06.05.2022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1279&amp;dst=100007&amp;field=134&amp;date=06.05.2022" TargetMode="External"/><Relationship Id="rId3" Type="http://schemas.openxmlformats.org/officeDocument/2006/relationships/hyperlink" Target="https://login.consultant.ru/link/?req=doc&amp;base=LAW&amp;n=401279&amp;dst=100007&amp;field=134&amp;date=06.05.2022" TargetMode="External"/><Relationship Id="rId4" Type="http://schemas.openxmlformats.org/officeDocument/2006/relationships/hyperlink" Target="https://login.consultant.ru/link/?req=doc&amp;base=LAW&amp;n=402317&amp;dst=100007&amp;field=134&amp;date=06.05.2022" TargetMode="External"/><Relationship Id="rId5" Type="http://schemas.openxmlformats.org/officeDocument/2006/relationships/hyperlink" Target="https://login.consultant.ru/link/?req=doc&amp;base=LAW&amp;n=402317&amp;dst=100007&amp;field=134&amp;date=06.05.2022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3334&amp;dst=100009&amp;field=134&amp;date=06.05.2022" TargetMode="External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2787&amp;dst=100004&amp;field=134&amp;date=06.05.2022" TargetMode="External"/><Relationship Id="rId3" Type="http://schemas.openxmlformats.org/officeDocument/2006/relationships/hyperlink" Target="https://login.consultant.ru/link/?req=doc&amp;base=LAW&amp;n=402787&amp;dst=100004&amp;field=134&amp;date=06.05.2022" TargetMode="External"/><Relationship Id="rId4" Type="http://schemas.openxmlformats.org/officeDocument/2006/relationships/hyperlink" Target="https://login.consultant.ru/link/?req=doc&amp;base=LAW&amp;n=389002&amp;date=06.05.2022&amp;dst=100316&amp;field=134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70425&amp;date=25.02.2022" TargetMode="External"/><Relationship Id="rId3" Type="http://schemas.openxmlformats.org/officeDocument/2006/relationships/hyperlink" Target="https://login.consultant.ru/link/?req=doc&amp;base=LAW&amp;n=370425&amp;date=25.02.2022&amp;dst=100037&amp;field=134" TargetMode="External"/><Relationship Id="rId4" Type="http://schemas.openxmlformats.org/officeDocument/2006/relationships/hyperlink" Target="https://login.consultant.ru/link/?req=doc&amp;base=LAW&amp;n=370425&amp;date=25.02.2022&amp;dst=100060&amp;field=134" TargetMode="External"/><Relationship Id="rId5" Type="http://schemas.openxmlformats.org/officeDocument/2006/relationships/hyperlink" Target="https://login.consultant.ru/link/?req=doc&amp;base=LAW&amp;n=370425&amp;date=25.02.2022&amp;dst=100065&amp;field=134" TargetMode="External"/><Relationship Id="rId6" Type="http://schemas.openxmlformats.org/officeDocument/2006/relationships/hyperlink" Target="https://login.consultant.ru/link/?req=doc&amp;base=LAW&amp;n=370425&amp;date=25.02.2022&amp;dst=100068&amp;field=134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70070&amp;date=25.02.2022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377745&amp;date=25.02.2022&amp;dst=100067&amp;field=134" TargetMode="External"/><Relationship Id="rId3" Type="http://schemas.openxmlformats.org/officeDocument/2006/relationships/hyperlink" Target="https://login.consultant.ru/link/?req=doc&amp;base=LAW&amp;n=385617&amp;date=25.02.2022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00854&amp;date=25.02.2022&amp;dst=100083&amp;field=134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13480&amp;date=06.05.2022" TargetMode="External"/><Relationship Id="rId3" Type="http://schemas.openxmlformats.org/officeDocument/2006/relationships/hyperlink" Target="https://login.consultant.ru/link/?req=doc&amp;base=LAW&amp;n=413480&amp;date=06.05.2022&amp;dst=100011&amp;field=134" TargetMode="External"/><Relationship Id="rId4" Type="http://schemas.openxmlformats.org/officeDocument/2006/relationships/hyperlink" Target="https://login.consultant.ru/link/?req=doc&amp;base=LAW&amp;n=413480&amp;date=06.05.2022&amp;dst=100018&amp;field=134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login.consultant.ru/link/?req=doc&amp;base=LAW&amp;n=413689&amp;date=06.05.2022" TargetMode="External"/><Relationship Id="rId3" Type="http://schemas.openxmlformats.org/officeDocument/2006/relationships/hyperlink" Target="https://login.consultant.ru/link/?req=doc&amp;base=LAW&amp;n=413689&amp;date=06.05.2022&amp;dst=100014&amp;field=134" TargetMode="External"/><Relationship Id="rId4" Type="http://schemas.openxmlformats.org/officeDocument/2006/relationships/hyperlink" Target="https://login.consultant.ru/link/?req=doc&amp;base=LAW&amp;n=413689&amp;date=06.05.2022&amp;dst=100015&amp;field=134" TargetMode="External"/><Relationship Id="rId5" Type="http://schemas.openxmlformats.org/officeDocument/2006/relationships/hyperlink" Target="https://login.consultant.ru/link/?req=doc&amp;base=LAW&amp;n=413689&amp;date=06.05.2022&amp;dst=100012&amp;field=13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1" descr="1616439972_1-p-belo-goluboi-fon-dlya-prezentatsii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эмблема.png"/>
          <p:cNvPicPr/>
          <p:nvPr/>
        </p:nvPicPr>
        <p:blipFill>
          <a:blip r:embed="rId2"/>
          <a:stretch/>
        </p:blipFill>
        <p:spPr>
          <a:xfrm>
            <a:off x="428760" y="285840"/>
            <a:ext cx="928440" cy="949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714240" y="2432160"/>
            <a:ext cx="785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бзор: "Основные изменения в трудовом законодательстве в 2021 - 2022 год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1280" y="142920"/>
            <a:ext cx="7607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профессионального союза работников народного образования и науки                            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1116000" y="5805360"/>
            <a:ext cx="734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председателя Архангельской межрегиональной организации профсоюза,  главный правовой инспектор труда  Н.В. Плотник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8" descr="56795758.jpg"/>
          <p:cNvPicPr/>
          <p:nvPr/>
        </p:nvPicPr>
        <p:blipFill>
          <a:blip r:embed="rId3"/>
          <a:stretch/>
        </p:blipFill>
        <p:spPr>
          <a:xfrm>
            <a:off x="3219480" y="3224160"/>
            <a:ext cx="271764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1000080" y="2876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действует единый перечень районов Крайнего Севера и приравненных к ним мес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1143000" y="114300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16.11.2021 N 1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57120" y="17877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носят технический характер и призваны объединить положения разрозненных НПА в одном доку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H:\1.1.Семинары 2022г\2. Семинары по трудовому законодат. 2022г\4. Выездной семинар с активом САФУ\images (1).jpg"/>
          <p:cNvPicPr/>
          <p:nvPr/>
        </p:nvPicPr>
        <p:blipFill>
          <a:blip r:embed="rId3"/>
          <a:stretch/>
        </p:blipFill>
        <p:spPr>
          <a:xfrm>
            <a:off x="2071800" y="3214800"/>
            <a:ext cx="4929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758880" cy="766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123560" y="231120"/>
            <a:ext cx="73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МРОТ увеличен до 13 890 ру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357120" y="92880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06.12.2021 N 406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28760" y="1668600"/>
            <a:ext cx="817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нужен работодателям для расчета ряда выплат сотрудникам: зарплат, больничных, отпускных и командиров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 дополнительное повышение М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0% с 01.07.202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5" descr="загружено (3).jpg"/>
          <p:cNvPicPr/>
          <p:nvPr/>
        </p:nvPicPr>
        <p:blipFill>
          <a:blip r:embed="rId3"/>
          <a:stretch/>
        </p:blipFill>
        <p:spPr>
          <a:xfrm>
            <a:off x="1476360" y="3357720"/>
            <a:ext cx="5759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лена МЗП в Архангельской области!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основании ст. 133.1. ТК РФ пункт 3 .2 Трехстороннего соглашения Архангельской области на 2021-2023 годы дополнить новым подпунктом 10 следующего содержания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1920" indent="-331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10) обеспечивает в государственных учреждениях минимальный размер месячной заработной платы работника (далее МЗП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ностью отработавшего за этот период норму рабочего времени и выполнившего нормы труда (трудовые обязанности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ниже минимального размера оплаты тру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ого федеральным законодательством на соответствующий календарный год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, что в минимальный размер месячной за работной платы работни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ходя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оплата сверхурочной работы, работы в выходные и нерабочие праздничные дни, в ночное врем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изводимая в соответствии со ст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2 -154 ТК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латы за совмещение профессий (должностей), расширение зон обслуживания, увеличение объема работ, исполнение обязанностей временно отсутствующего работ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производимые в соответствии с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51 ТК РФ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е коэффициенты и процентные надбавки к за работной пла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ановленные в соответствии со статьям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, 316, 317 ТК РФ.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3" descr="эмблема.png"/>
          <p:cNvPicPr/>
          <p:nvPr/>
        </p:nvPicPr>
        <p:blipFill>
          <a:blip r:embed="rId1"/>
          <a:stretch/>
        </p:blipFill>
        <p:spPr>
          <a:xfrm>
            <a:off x="179280" y="0"/>
            <a:ext cx="576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27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новлена МЗП в Архангель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3.3 дополнить новым подпункт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ледующего содерж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10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минимальный размер месячной заработной пла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а, полностью отработавшего за этот период норму рабочего времени и выполнившего нормы труда (трудовые обязанности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ниже МРО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ановленного федеральным законодательств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ответствующий календарный г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четом, что, в МЗП работника не входя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оплата сверхурочной работы, работы в выходные и нерабочие праздничные дни, в ночное время, производимая в соответствии со ст.152 - 154 ТК РФ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латы за совмещение профессий (должностей), расширение з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я, увеличение объема работ, исполнение обязанностей временно отсутствующего работника, производимые в соответствии со ст. 151 ТК РФ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ные коэффициенты и процентные надбавки к заработной плат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е в соответствии со статьями 315, 316, 317 ТК РФ.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подпункте 11 пункта 7.3 раздела 7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циальные гарантии молодежи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 30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заменить словам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 35 лет включительно»;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подпункте 10 пункта 8.3 раздела 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социального партнерства в сфере труда и координация действий сторон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лов «профсоюзных конференций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словами «, участия в работе выборных коллегиальных органов профессиональных союзов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лов «профсоюзной конференции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словами «или участия в работе выборных коллегиальных органов профессиональных союз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95280" y="189000"/>
            <a:ext cx="792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Соглашения о МЗ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дополнительно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глашение вступает в силу со дня его подписания (т.е с 06.04.2022 года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яет свое действие на правоотношения, возникающие с 1 апреля 2022 года, 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йствует до 31 декабря 2023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ункт 3 пун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ополнительного соглашения в отношении работников государственных учреждений Архангельской области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ет в силу со дня вступления в силу областного зако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несении изменений в статью 9 областного закона от 10 ноября 2004 г. № 260-33- ОЗ «Об оплате труда работников государственных учреждений Архангельской области, гарантиях и компенсациях для лиц, работающих в государственных учреждениях Архангельской области, расположенных в районах Крайнего Севера и приравненных к ним местностях» в части отнесения к молодежи лиц до 35 лет включите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эмблема.png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766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:\1.1.Семинары 2022г\2. Семинары по трудовому законодат. 2022г\1.Семинар по оплате труда 29.03.2022г\images.jpg"/>
          <p:cNvPicPr/>
          <p:nvPr/>
        </p:nvPicPr>
        <p:blipFill>
          <a:blip r:embed="rId2"/>
          <a:stretch/>
        </p:blipFill>
        <p:spPr>
          <a:xfrm>
            <a:off x="2571840" y="5732640"/>
            <a:ext cx="31338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869040" y="271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уточнили правила оформления пособ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428760" y="907920"/>
            <a:ext cx="56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30.04.2021 N 126-ФЗ  изменил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остановл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23.11.2021 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28760" y="159984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я по болезни, а также по беременности и рода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организаци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олностью перешл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 оформление электронных листков нетрудоспособности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рахованному лицу по его желанию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могут предостав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иску из электронного больнич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е бланки больничных выдают в исключительных случаях (к примеру, если сведения о застрахованном лице составляют гостайн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аждом изменении статуса электронного листка нетрудоспособности (открыт, продлен, закрыт, аннулирован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и должн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получ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ение от ФС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гласие работника для этого не нужно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для расчета пособ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надо подавать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фонду только по его запросу и лишь в указанном объ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рок - 3 рабочих дня со дня получения данных о закрытии больнич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и больше не должны сообщать номера электронных больн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о назначении пособия по-прежнему необяз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H:\1.1.Семинары 2022г\2. Семинары по трудовому законодат. 2022г\4. Выездной семинар с активом САФУ\images (2).jpg"/>
          <p:cNvPicPr/>
          <p:nvPr/>
        </p:nvPicPr>
        <p:blipFill>
          <a:blip r:embed="rId8"/>
          <a:stretch/>
        </p:blipFill>
        <p:spPr>
          <a:xfrm>
            <a:off x="6143760" y="714240"/>
            <a:ext cx="25714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428760" y="638640"/>
            <a:ext cx="83581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я при рождении ребен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ники могут больше не подавать заявление о назначении пособия и другие докумен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 примеру справку о рождении ребенка. Основной массив данных ФСС получает в порядке межведомственного взаимодействия и сам назначает выпл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ботодател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могут истреб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шь сведения о районном коэффици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я по уходу за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формления по-прежнем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нужн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ление работник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в его, работодате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3 рабочих дне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должен переда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нду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периоде отпуска по уходу за ребен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е лет в расчетном периоде (если работник заявил об это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и рабочего времени (при неполном рабочем дне или неде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тите внимание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усили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 за нарушение правил передачи данных ФС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примеру, если организация не подала в срок сведения, которые нужны для назначения пособий, е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ит штраф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5 000 руб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H:\1.1.Семинары 2022г\2. Семинары по трудовому законодат. 2022г\4. Выездной семинар с активом САФУ\edinovremennoe-posobie-na-rebenka.jpg"/>
          <p:cNvPicPr/>
          <p:nvPr/>
        </p:nvPicPr>
        <p:blipFill>
          <a:blip r:embed="rId7"/>
          <a:stretch/>
        </p:blipFill>
        <p:spPr>
          <a:xfrm>
            <a:off x="2643120" y="5357880"/>
            <a:ext cx="3714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1357200" y="42876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9.11.2021 N 373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357120" y="97308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и, которые ухаживают за родственниками с I группой инвалидности,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олучили прав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вухнедельный отпуск за свой сч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 сотрудников нужно письменно ознакомить с правом отказаться от команд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еречень работник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х нельзя без их согласия направлять в командировки, привлекать к ночной и сверхурочной работе, работе в выходные и праздн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перечень включ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трудников, воспитывающих без супруга (супруги) детей до 14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трудников, воспитывающих детей до 14 лет, если другой родитель вахтов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кунов детей до 14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 3 и более детей до 18 лет, младшему из которых меньше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ить в командировку сотрудников-инвалидов можн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только с их соглас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лько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нет медицинских противопоказ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H:\1.1.Семинары 2022г\2. Семинары по трудовому законодат. 2022г\4. Выездной семинар с активом САФУ\748563.jpg"/>
          <p:cNvPicPr/>
          <p:nvPr/>
        </p:nvPicPr>
        <p:blipFill>
          <a:blip r:embed="rId6"/>
          <a:stretch/>
        </p:blipFill>
        <p:spPr>
          <a:xfrm>
            <a:off x="2268360" y="5229360"/>
            <a:ext cx="4391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1000080" y="25668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марта 2021г. больше многодетных работников могут брать отпуск в люб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1547640" y="121428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09.03.2021 N 34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28760" y="16549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ый отпуск в любое время должен предоставляться по желанию сотрудников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ющих трех и более детей в возрасте до восемнадцати 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тя бы один ребенок должен быть младше четырнадцат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льготой были вправе воспользоваться многодетные работники, только если все дети младше 12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5" descr="semi.jpg"/>
          <p:cNvPicPr/>
          <p:nvPr/>
        </p:nvPicPr>
        <p:blipFill>
          <a:blip r:embed="rId3"/>
          <a:stretch/>
        </p:blipFill>
        <p:spPr>
          <a:xfrm>
            <a:off x="1785960" y="4071960"/>
            <a:ext cx="5572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500040" y="16632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 на рабо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Постановление Правительства РФ от 14.03.2022 N 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сентября 2022 года вступит в силу порядок выполнения работодателем квоты для трудоустройства инвали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оту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надобится рассчиты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егодно до 1 февраля. Исходить нужно из среднесписочной численности персонала за IV кварт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Приказ МВД России от 30.07.2020 N 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г. нужно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-новому уведомлять о приеме и увольнении иностранце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значительно изменена формы уведом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Приказ Минтруда России от 14.02.2022 N 58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9 марта 2022 года действует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й перечень профессий, по которым иностранцев можно принимать на работу вне кв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Новый спис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фессий (специальностей, должностной) содержит значительно больше наимен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го включили, например, широкий круг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едицинских професс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работников железнодорожного транспор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величили количество специальностей в сфер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монтажа и ремонта электрообору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H:\1.1.Семинары 2022г\2. Семинары по трудовому законодат. 2022г\4. Выездной семинар с активом САФУ\dogovor.png"/>
          <p:cNvPicPr/>
          <p:nvPr/>
        </p:nvPicPr>
        <p:blipFill>
          <a:blip r:embed="rId6"/>
          <a:stretch/>
        </p:blipFill>
        <p:spPr>
          <a:xfrm>
            <a:off x="5435640" y="5373720"/>
            <a:ext cx="3168720" cy="121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F:\1.1.Семинары 2022г\2. Семинары по трудовому законодат. 2022г\4. Выездной семинар с активом САФУ\748563.jpg"/>
          <p:cNvPicPr/>
          <p:nvPr/>
        </p:nvPicPr>
        <p:blipFill>
          <a:blip r:embed="rId7"/>
          <a:stretch/>
        </p:blipFill>
        <p:spPr>
          <a:xfrm>
            <a:off x="755640" y="5300640"/>
            <a:ext cx="337680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2466360" y="1998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Электронный документо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785880" y="542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2 ноября 2021г. можно оформлять кадровые документы в электронном виде без их дублирования на бум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428760" y="121428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2.11.2021 N 377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57120" y="162756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документооборот можно использов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практически всех кадровых документов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торых предусмотрена обязательная бумажная фор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е правила не распространяют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., на трудовые книжки и сведения о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введении нового формата нужно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в ЛНА е с учетом мнения первичной профсоюзн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нять новые правила разрешается только с письменного согласия рабо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:\1.1.Семинары 2022г\2. Семинары по трудовому законодат. 2022г\4. Выездной семинар с активом САФУ\Документооборот12 (1).jpg"/>
          <p:cNvPicPr/>
          <p:nvPr/>
        </p:nvPicPr>
        <p:blipFill>
          <a:blip r:embed="rId2"/>
          <a:stretch/>
        </p:blipFill>
        <p:spPr>
          <a:xfrm>
            <a:off x="1332000" y="4149720"/>
            <a:ext cx="652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у новых сотрудников без стажа можно не получать согласие на электронное взаимодейств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Рисунок 3" descr="эмблема.png"/>
          <p:cNvPicPr/>
          <p:nvPr/>
        </p:nvPicPr>
        <p:blipFill>
          <a:blip r:embed="rId1"/>
          <a:stretch/>
        </p:blipFill>
        <p:spPr>
          <a:xfrm>
            <a:off x="179280" y="1890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сотрудника по состоянию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31 декабря 2021 года н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ового стаж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ри приеме на работу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чиная с 1 январ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глас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ое взаимодействие с работодателем действует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умолчан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H:\1.1.Семинары 2022г\2. Семинары по трудовому законодат. 2022г\4. Выездной семинар с активом САФУ\slide-0.jpg"/>
          <p:cNvPicPr/>
          <p:nvPr/>
        </p:nvPicPr>
        <p:blipFill>
          <a:blip r:embed="rId2"/>
          <a:stretch/>
        </p:blipFill>
        <p:spPr>
          <a:xfrm>
            <a:off x="1450800" y="2714760"/>
            <a:ext cx="6242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1071720" y="185400"/>
            <a:ext cx="77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8 января 2022 года нужно вести на работников отдельные карточки по воинскому уч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692360" y="112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рика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стра обороны РФ от 22.11.2021 N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85840" y="164664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ника-призывника или военнообязанного нужно завести карточку гражданина, подлежащего воинскому учету в организации, в электронной и бумаж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Бланк карточки т2 для воинского учёта форма нового образца"/>
          <p:cNvPicPr/>
          <p:nvPr/>
        </p:nvPicPr>
        <p:blipFill>
          <a:blip r:embed="rId3"/>
          <a:stretch/>
        </p:blipFill>
        <p:spPr>
          <a:xfrm>
            <a:off x="2286000" y="2786040"/>
            <a:ext cx="4809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830160" cy="693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1476360" y="-7344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нтроль и надз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23 июля 2021г. действует новое положение о проверках раб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285840" y="100008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21.07.2021 N 1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ы следующи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контроль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новые (выездная провер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плановые (например, инспекционный визит, рейдовый осмотр, документарная провер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57120" y="278640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раньше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яют рискориентирован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ота плановых проверок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не изменила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Правительства РФ  № 336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овые проверки приостановлены до 31.12.202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H:\1.1.Семинары 2022г\2. Семинары по трудовому законодат. 2022г\4. Выездной семинар с активом САФУ\1461712553131_big_vlru.jpg"/>
          <p:cNvPicPr/>
          <p:nvPr/>
        </p:nvPicPr>
        <p:blipFill>
          <a:blip r:embed="rId5"/>
          <a:stretch/>
        </p:blipFill>
        <p:spPr>
          <a:xfrm>
            <a:off x="1285920" y="4143240"/>
            <a:ext cx="6357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эмблема.png"/>
          <p:cNvPicPr/>
          <p:nvPr/>
        </p:nvPicPr>
        <p:blipFill>
          <a:blip r:embed="rId1"/>
          <a:stretch/>
        </p:blipFill>
        <p:spPr>
          <a:xfrm>
            <a:off x="250920" y="189000"/>
            <a:ext cx="792000" cy="718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1155240" y="189360"/>
            <a:ext cx="80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1 марта 2022 года действуют новые формы проверочных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24720" y="100008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рика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труда от 01.02.2022 N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85840" y="15127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руд утверди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новых фор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ним проконтролируют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оформления приема на рабо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требований по содержанию трудовых догово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ведения и хранения трудовых книжек, а также формирования сведений о 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ю расследования и учета несчастных случаев на производ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H:\1.1.Семинары 2022г\2. Семинары по трудовому законодат. 2022г\4. Выездной семинар с активом САФУ\infografika_original.jpg"/>
          <p:cNvPicPr/>
          <p:nvPr/>
        </p:nvPicPr>
        <p:blipFill>
          <a:blip r:embed="rId3"/>
          <a:stretch/>
        </p:blipFill>
        <p:spPr>
          <a:xfrm>
            <a:off x="5429160" y="1143000"/>
            <a:ext cx="3571920" cy="5286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:\1.1.Семинары 2022г\2. Семинары по трудовому законодат. 2022г\4. Выездной семинар с активом САФУ\image.jpg"/>
          <p:cNvPicPr/>
          <p:nvPr/>
        </p:nvPicPr>
        <p:blipFill>
          <a:blip r:embed="rId4"/>
          <a:stretch/>
        </p:blipFill>
        <p:spPr>
          <a:xfrm>
            <a:off x="1214280" y="4500720"/>
            <a:ext cx="21434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1071720" y="28764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 июля 2021г. вводится обязательное досудебное обжалование решений трудинспе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1258920" y="1143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28.04.2021 N 6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85840" y="171792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в области трудового законодательства вошел в перечень видов контроля, по которым применя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й досудебный порядок обжалования решений органов, действий (бездействия) их должностны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6" descr="загружено (4).jpg"/>
          <p:cNvPicPr/>
          <p:nvPr/>
        </p:nvPicPr>
        <p:blipFill>
          <a:blip r:embed="rId3"/>
          <a:stretch/>
        </p:blipFill>
        <p:spPr>
          <a:xfrm>
            <a:off x="2214720" y="3571920"/>
            <a:ext cx="4655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000080" y="32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ОУСТРОЙСТВО и ЗАНЯ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марта 2022 года установили правила получения субсидии за трудоустройство молод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14200" y="10717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18.03.2022 N 3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395280" y="162864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редоставя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аниям трудоустроившим отдельные категории гражда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расте до 30 лет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м числе выпускников колледжей и вузов без опыта работы, лиц без среднего профессионального или высшего образования, инвалидов, детей-си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рассчит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: (МРОТ + сумма страховых взносов + районный коэффициент)  количество таких сотрудников х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бора персонал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необходимо направ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ление в центр занятости через сайт "Работа в 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 После трудоустройства нужно подать заявление через систему "Соцстрах" о включении работодателя в реестр для предоставления субси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H:\1.1.Семинары 2022г\2. Семинары по трудовому законодат. 2022г\4. Выездной семинар с активом САФУ\images (3).jpg"/>
          <p:cNvPicPr/>
          <p:nvPr/>
        </p:nvPicPr>
        <p:blipFill>
          <a:blip r:embed="rId6"/>
          <a:stretch/>
        </p:blipFill>
        <p:spPr>
          <a:xfrm>
            <a:off x="2786040" y="485784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1214280" y="1447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большинству работодателей нужно размещать вакансии на портале "Работа в России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1979640" y="10000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8.06.2021 N 219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1258920" y="15001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останов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30.12.2021 N 2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208404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ть сведения о свободны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ях на портал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обяза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имер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и государственного и муниципального сектора, включая ГУП и МУ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и, в уставном капитале которых участвует государство или муниципалит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организации, если их среднесписочная численность за 2021 год больше 25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же организации должны размещать на портал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све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банкротстве, а также о рабочих местах для трудоустройства инвал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:\1.1.Семинары 2022г\2. Семинары по трудовому законодат. 2022г\4. Выездной семинар с активом САФУ\images (3).jpg"/>
          <p:cNvPicPr/>
          <p:nvPr/>
        </p:nvPicPr>
        <p:blipFill>
          <a:blip r:embed="rId6"/>
          <a:stretch/>
        </p:blipFill>
        <p:spPr>
          <a:xfrm>
            <a:off x="2786040" y="485784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"/>
          <p:cNvSpPr/>
          <p:nvPr/>
        </p:nvSpPr>
        <p:spPr>
          <a:xfrm>
            <a:off x="1000080" y="146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6 апреля 2021г. установлены специальные сроки для подачи работником иска о возмещении морального 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857240" y="128592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05.04.2021 N 7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71680" y="17892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ботник не заявлял о компенсации морального вреда вместе с основным требованием, то для данного иска у него ес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есяца с момента вступления в силу решения суда по основному треб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1285920" y="27147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останов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С РФ от 20.01.2022 N 3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00040" y="479340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 января 2022 года передача функций работника на аутсорсинг приравнивается к его сокращ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й суд разъяснил: работник, чьи функции передали сторонним подрядчикам, фактически находится в том же положении, что и работник, чью должность сокращают. Увольнять такого работника нужно в связи с сокращением численности или штата работников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H:\1.1.Семинары 2022г\2. Семинары по трудовому законодат. 2022г\4. Выездной семинар с активом САФУ\Без названия.png"/>
          <p:cNvPicPr/>
          <p:nvPr/>
        </p:nvPicPr>
        <p:blipFill>
          <a:blip r:embed="rId4"/>
          <a:stretch/>
        </p:blipFill>
        <p:spPr>
          <a:xfrm>
            <a:off x="1714680" y="3071880"/>
            <a:ext cx="4786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7120" y="200016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практики рассмотрения судами дел по спорам, связанным с заключением трудового договор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в. Президиумом Верховного суда от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.04.2022г.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а практика 2018 – 2022 годо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каз в приеме на работу без указания причин является незаконным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каз в приеме на работу по причинам, не связанным с деловыми ткачествами лица, незаконен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каз в заключении трудового договора женщине по мотивам, связанным с беременностью, носит дискриминационный характер;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судом при разрешении спора о правомерности заключения срочного трудового договора будет установлено, что он заключался работником вынужденно, то такой ТД можно считать заключенным на неопределенный с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H:\1.1.Семинары 2022г\2. Семинары по трудовому законодат. 2022г\4. Выездной семинар с активом САФУ\images.png"/>
          <p:cNvPicPr/>
          <p:nvPr/>
        </p:nvPicPr>
        <p:blipFill>
          <a:blip r:embed="rId1"/>
          <a:stretch/>
        </p:blipFill>
        <p:spPr>
          <a:xfrm>
            <a:off x="7858080" y="0"/>
            <a:ext cx="11192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эмблема.png"/>
          <p:cNvPicPr/>
          <p:nvPr/>
        </p:nvPicPr>
        <p:blipFill>
          <a:blip r:embed="rId2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:\1.1.Семинары 2022г\2. Семинары по трудовому законодат. 2022г\4. Выездной семинар с активом САФУ\3-1-1.jpg"/>
          <p:cNvPicPr/>
          <p:nvPr/>
        </p:nvPicPr>
        <p:blipFill>
          <a:blip r:embed="rId3"/>
          <a:stretch/>
        </p:blipFill>
        <p:spPr>
          <a:xfrm>
            <a:off x="3500280" y="535788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14480" cy="142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000080" y="1447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г. сокращен перечень работ, на которых запрещено трудиться женщ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428760" y="264312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рик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уда России от 13.05.2021 N 31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500040" y="3143160"/>
            <a:ext cx="842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"неженских" работ скорректировали. Установи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ные виды профессий, по которым нельзя трудиться женщина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чь идет о котельных, холодноштамповочных, волочильных и давильных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работа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работа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монтажу и обслуживанию технологического оборудования, ремонту нефтепромыслового обору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речня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исключи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у авиационным механиком и техником, инженером, непосредственно обслуживающим самолеты или вертол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2571840" y="8571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Прик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уда от 18.07.2019 N 51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357120" y="1285920"/>
            <a:ext cx="828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ции Минтруда, перечен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сокраще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олее чем в четыре раз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 456 позиций новым приказом утверждено 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здании безопасных условий труда работодатель вправе применять труд женщин без ограниче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ключение - работы, перечисленные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пунктах 8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9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чн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1928880" y="49291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марта 2022 года уточнили нормы тяжестей, которые могут вручную поднимать женщ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2143080" y="557208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Прик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уда России от 14.09.2021 N 62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1571760" y="592920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мме за час женщина не должна перемещать боле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350 к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зов с рабочей поверхности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175 к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ла. Разово можно поднимать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максимум 15 к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H:\1.1.Семинары 2022г\2. Семинары по трудовому законодат. 2022г\4. Выездной семинар с активом САФУ\images.jpg"/>
          <p:cNvPicPr/>
          <p:nvPr/>
        </p:nvPicPr>
        <p:blipFill>
          <a:blip r:embed="rId16"/>
          <a:stretch/>
        </p:blipFill>
        <p:spPr>
          <a:xfrm>
            <a:off x="395280" y="4724280"/>
            <a:ext cx="1285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1071720" y="368640"/>
            <a:ext cx="65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марта 2022 года заработали обшир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охран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042920" y="1485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Федеральный закон от 02.07.2021 N 311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42960" y="2016360"/>
            <a:ext cx="771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 внесении изменений в Трудовой кодекс Российской Федерации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01.03.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марта начали действовать подзаконные НПА, которыми установ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поря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ачи декларации соответствия условий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общи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организации безопасного рабочего ме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6"/>
              </a:rPr>
              <a:t>основ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и инструкциям по охран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7"/>
              </a:rPr>
              <a:t>примерное поло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 комитете по охран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8"/>
              </a:rPr>
              <a:t>примерный переч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роприятий по охране здоровья сотрудников, которые трудятся на территории другого работод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9"/>
              </a:rPr>
              <a:t>формы и способ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формирования работников о трудовых правах, включая право на безопасные условия и охрану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:\1.1.Семинары 2022г\2. Семинары по трудовому законодат. 2022г\4. Выездной семинар с активом САФУ\f371cc677682cbf779fdca41bb509927.png"/>
          <p:cNvPicPr/>
          <p:nvPr/>
        </p:nvPicPr>
        <p:blipFill>
          <a:blip r:embed="rId10"/>
          <a:stretch/>
        </p:blipFill>
        <p:spPr>
          <a:xfrm>
            <a:off x="7215120" y="42876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500040" y="115452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каз Минтруда России от 17.06.2021 N 406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 форме и Порядке подач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кларации соответствия условий труда государственным нормативным требованиям охраны труд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ке формирования и ведения реестра деклараций соответствия условий труда государственным нормативным требованиям охраны труда" (Зарегистрировано в Минюсте России 29.07.2021 N 6444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ок действия документ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 марта 202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:\1.1.Семинары 2022г\2. Семинары по трудовому законодат. 2022г\4. Выездной семинар с активом САФУ\6pahjytodkmodthtajdggqqax0648zdi.png"/>
          <p:cNvPicPr/>
          <p:nvPr/>
        </p:nvPicPr>
        <p:blipFill>
          <a:blip r:embed="rId4"/>
          <a:stretch/>
        </p:blipFill>
        <p:spPr>
          <a:xfrm>
            <a:off x="2071800" y="3786120"/>
            <a:ext cx="4857480" cy="242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H:\1.1.Семинары 2022г\2. Семинары по трудовому законодат. 2022г\4. Выездной семинар с активом САФУ\prevyu.jpg"/>
          <p:cNvPicPr/>
          <p:nvPr/>
        </p:nvPicPr>
        <p:blipFill>
          <a:blip r:embed="rId5"/>
          <a:stretch/>
        </p:blipFill>
        <p:spPr>
          <a:xfrm>
            <a:off x="5929200" y="142920"/>
            <a:ext cx="2786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357120" y="1072800"/>
            <a:ext cx="83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каз Минтруда России от 22.09.2021 N 650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б утверждении примерного положения о комитете (комиссии) по охране труда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Зарегистр. в Минюсте России 30.11.2021 N 6614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Комитет (комиссия) по охране труда - в 2022 году «по-новому»"/>
          <p:cNvPicPr/>
          <p:nvPr/>
        </p:nvPicPr>
        <p:blipFill>
          <a:blip r:embed="rId3"/>
          <a:stretch/>
        </p:blipFill>
        <p:spPr>
          <a:xfrm>
            <a:off x="2500200" y="3429000"/>
            <a:ext cx="4071960" cy="24289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500040" y="242892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крепляет порядок формирования, основные задачи, функции и права комиссии по охране тр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285840" y="79740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каз Минтруда России от 29.10.2021 N 77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 утверждении основных требований к порядку разработки и содержанию правил и инструкций по охране труда, разрабатываемых работодателем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Зарегистрировано в Минюсте России 26.11.2021 N 66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ок действия документ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 марта 202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анный документ не применяется до 1 января 20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 Основание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Прик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труда России от 17.03.2022 N 140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357120" y="33577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9 марта 2022 года приостановили действие основание треб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авилам и инструкциям по охране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57120" y="471492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Прика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уда России от 17.03.2022 N 140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57120" y="52880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 января 2023 года не нужно применять основные требования к порядку разработки и содержанию правил, а также инструкций по охран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214200" y="8578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риказ Минтруда России от 29.10.2021 N 774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285840" y="1366200"/>
            <a:ext cx="621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б утверждении общих требований к организации безопасного рабочего места"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регистрировано в Минюсте России 25.11.2021 N 65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ок действия документ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марта 202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285840" y="306000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Приказ Минтруда России от 22.09.2021 N 656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28760" y="3587400"/>
            <a:ext cx="814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Об утверждении примерного перечня мероприятий по предотвращению случаев повреждения здоровья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и производстве работ (оказании услуг) на территори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ящейся под контролем другого работодателя (иного лица)"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регистрировано в Минюсте России 02.12.2021 N 6619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:\1.1.Семинары 2022г\2. Семинары по трудовому законодат. 2022г\4. Выездной семинар с активом САФУ\Без названия.jpg"/>
          <p:cNvPicPr/>
          <p:nvPr/>
        </p:nvPicPr>
        <p:blipFill>
          <a:blip r:embed="rId6"/>
          <a:stretch/>
        </p:blipFill>
        <p:spPr>
          <a:xfrm>
            <a:off x="6286680" y="285840"/>
            <a:ext cx="2500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285840" y="9295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Приказ Минтруда России от 29.10.2021 N 77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357120" y="150984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 утверждении форм (способов) информирования работников об их трудовых прав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ключая право на безопасные условия и охрану труда, и примерного перечня информационных материалов в целях информирования работников об их трудовых правах, включая право на безопасные условия и охрану труда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регистрировано в Минюсте России 14.12.2021 N 663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:\1.1.Семинары 2022г\2. Семинары по трудовому законодат. 2022г\4. Выездной семинар с активом САФУ\ot1.jpg"/>
          <p:cNvPicPr/>
          <p:nvPr/>
        </p:nvPicPr>
        <p:blipFill>
          <a:blip r:embed="rId3"/>
          <a:stretch/>
        </p:blipFill>
        <p:spPr>
          <a:xfrm>
            <a:off x="4857840" y="3857760"/>
            <a:ext cx="3286080" cy="2500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H:\1.1.Семинары 2022г\2. Семинары по трудовому законодат. 2022г\4. Выездной семинар с активом САФУ\1f7c43f79e61364818dc18b15a1bcd34.jpg"/>
          <p:cNvPicPr/>
          <p:nvPr/>
        </p:nvPicPr>
        <p:blipFill>
          <a:blip r:embed="rId4"/>
          <a:stretch/>
        </p:blipFill>
        <p:spPr>
          <a:xfrm>
            <a:off x="428760" y="4214880"/>
            <a:ext cx="3857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85840" y="669600"/>
            <a:ext cx="8286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Об утверждении перечня работ, на которые не распространяется запрет, установленный статьей 214.1 Трудового кодекса Российской Федерации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действия документа 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01.03.20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ок действ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1 марта 2028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и основных законодательных изме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ребуется регистрировать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микротрав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также выяснять их обстоятельства и прич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ельзя допуск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работе тех, кто не применяет обязательные СИ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если по результатам СОУТ условия труда отнесут к опасным,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потребуется приостанов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боты (но есть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исклю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огут ве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лектронный документооборот в области охраны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если работника не обеспечили средствами защиты, работодатель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обязан оплат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стой в размере среднего зарабо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ботодател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обязаны соглас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собой мероприятия по охране здоровья сотрудников, которые трудятся на территории другого работод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1071720" y="4287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) Распоряжение Правительства РФ от 04.12.2021 N 3455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H:\1.1.Семинары 2022г\2. Семинары по трудовому законодат. 2022г\4. Выездной семинар с активом САФУ\images (5).jpg"/>
          <p:cNvPicPr/>
          <p:nvPr/>
        </p:nvPicPr>
        <p:blipFill>
          <a:blip r:embed="rId5"/>
          <a:stretch/>
        </p:blipFill>
        <p:spPr>
          <a:xfrm>
            <a:off x="1857240" y="5357880"/>
            <a:ext cx="5500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1214280" y="147240"/>
            <a:ext cx="69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ХРАН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сентября 2022 года начнут действовать новые правила обучения по охране труда и проверки знания требований охраны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7120" y="142884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24.12.2021 N 24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57120" y="20098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егулируют, в частности, проведение инструктажей по охране труда, стажировок на рабочем месте, обучение оказанию первой медицинской помощи, обучение применению средств индивидуальной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ы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б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я по охране труда на микропред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, подтверждающие проверку у работников знания требований охраны труда, и выданные до 1 сентября 2022 года,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йствит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окончания своего с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H:\1.1.Семинары 2022г\2. Семинары по трудовому законодат. 2022г\4. Выездной семинар с активом САФУ\images (4).jpg"/>
          <p:cNvPicPr/>
          <p:nvPr/>
        </p:nvPicPr>
        <p:blipFill>
          <a:blip r:embed="rId2"/>
          <a:stretch/>
        </p:blipFill>
        <p:spPr>
          <a:xfrm>
            <a:off x="2714760" y="4643280"/>
            <a:ext cx="4000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709640" y="252900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лагодарим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5"/>
          <p:cNvPicPr/>
          <p:nvPr/>
        </p:nvPicPr>
        <p:blipFill>
          <a:blip r:embed="rId1"/>
          <a:stretch/>
        </p:blipFill>
        <p:spPr>
          <a:xfrm>
            <a:off x="684360" y="4581360"/>
            <a:ext cx="590400" cy="62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send_receive_256"/>
          <p:cNvPicPr/>
          <p:nvPr/>
        </p:nvPicPr>
        <p:blipFill>
          <a:blip r:embed="rId2"/>
          <a:stretch/>
        </p:blipFill>
        <p:spPr>
          <a:xfrm>
            <a:off x="611280" y="53737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1307520" y="47196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www.arhoblpro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407960" y="5300640"/>
            <a:ext cx="22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profobr@atknet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01"/>
          <p:cNvPicPr/>
          <p:nvPr/>
        </p:nvPicPr>
        <p:blipFill>
          <a:blip r:embed="rId3"/>
          <a:stretch/>
        </p:blipFill>
        <p:spPr>
          <a:xfrm>
            <a:off x="250920" y="26028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8"/>
          <p:cNvSpPr/>
          <p:nvPr/>
        </p:nvSpPr>
        <p:spPr>
          <a:xfrm>
            <a:off x="462456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719520" y="404640"/>
            <a:ext cx="53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хангельская межрегиональная орган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онального союза работников нар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я и наук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128040" y="149400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3000, г. Архангельск, пр. Ломоносова, 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1" descr="shutterstock_9787348 копия"/>
          <p:cNvPicPr/>
          <p:nvPr/>
        </p:nvPicPr>
        <p:blipFill>
          <a:blip r:embed="rId4"/>
          <a:stretch/>
        </p:blipFill>
        <p:spPr>
          <a:xfrm>
            <a:off x="4211640" y="3208320"/>
            <a:ext cx="4932360" cy="3649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2"/>
          <p:cNvSpPr/>
          <p:nvPr/>
        </p:nvSpPr>
        <p:spPr>
          <a:xfrm>
            <a:off x="5626800" y="3645000"/>
            <a:ext cx="23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е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52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мест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-8182)65-6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ухгалтер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88182)65-65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Факс: (88182)65-65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071720" y="2160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г. обновлено положение об особенностях режима рабочего времени 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85840" y="9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рика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анса России от 16.10.2020 N 4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57120" y="1157040"/>
            <a:ext cx="850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изме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можность разделить рабочий день или смену на 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раво увелич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ельное время непрерывного управления автомобилем в течение суток на 2 часа для завершения перевозки или следования к месту стоя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изирован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прав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ежедневном отдыхе водителей при суммированном учете рабочем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емя, в течение которого водитель находится во время движения автомобиля в составе экипажа и не управляет автомобилем, в рабочее врем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не включ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оплачивается. Размер доплаты устанавливает работодат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женедельный отдых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должен составл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енее 45 часов. Установлена минимальная периодичность его предоставления, а также допустимое сокра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altbd.ru/upload/iblock/30c/30c99c3d9487cbd74fedecfdb5f98f25.jpg"/>
          <p:cNvPicPr/>
          <p:nvPr/>
        </p:nvPicPr>
        <p:blipFill>
          <a:blip r:embed="rId7"/>
          <a:stretch/>
        </p:blipFill>
        <p:spPr>
          <a:xfrm>
            <a:off x="2286000" y="4429080"/>
            <a:ext cx="4000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1000080" y="217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г.  начали действовать новые правила, регламентирующие удаленн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500040" y="7858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08.12.2020 N 407-ФЗ, гл. 49-1 (ст. 312.1 – 312.9 ТК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1161720"/>
            <a:ext cx="82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изме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стоянной дистанционной работой появилось два вида временно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ерывная "удаленка" сроком не более полугода, чередование работы дистанционно и в офи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ь может по своей инициативе временно перевести персонал на дистанционную работу в 2 случаях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есть решение органов госвласти или местного самоуправления;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- есл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знь либо нормальные жизненные условия населения или его части находятся под угрозой (например, при эпидем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дател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язан обеспечить "дистанционщика" необходимым оборудование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ник может использовать свои либо арендованные средства с согласия или ведома работодателя. Тогда нужно выплатить ему компенсацию и возместить рас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го работника можно уволить, если он без уважительной причины не выходит на связь более 2 рабочих дней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H:\1.1.Семинары 2022г\2. Семинары по трудовому законодат. 2022г\4. Выездной семинар с активом САФУ\csm_200817_duality-model-01_5d508cef43-750x476.png"/>
          <p:cNvPicPr/>
          <p:nvPr/>
        </p:nvPicPr>
        <p:blipFill>
          <a:blip r:embed="rId3"/>
          <a:stretch/>
        </p:blipFill>
        <p:spPr>
          <a:xfrm>
            <a:off x="1714680" y="5357880"/>
            <a:ext cx="55004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1071720" y="14472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1г. работникам, трудоустроенным впервые, не нужно оформлять трудовые кни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397800" y="100008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6.12.2019 N 439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57120" y="143208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их работников сразу формируются электр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 книжки в ПФР на основании отчетных данных, подаваемых работод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357120" y="221472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рика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труда России от 19.05.2021 N 320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сентября 2021 года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удовые книж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ести по-нов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28760" y="2866320"/>
            <a:ext cx="82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а форма трудовой книж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овать её тольк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ене утраченных книжек ранее принятых сотруд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порядке ведения книже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пример, их разрешили заполнять не только вручную, но и с использованием технически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сь о работе дистанционного сотрудника вносится, только если он сам попросит об этом и предоставит трудовую книжку. Сотрудник может направить ее по почт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:\1.1.Семинары 2022г\2. Семинары по трудовому законодат. 2022г\Тр. книжка.jpg"/>
          <p:cNvPicPr/>
          <p:nvPr/>
        </p:nvPicPr>
        <p:blipFill>
          <a:blip r:embed="rId4"/>
          <a:stretch/>
        </p:blipFill>
        <p:spPr>
          <a:xfrm>
            <a:off x="6572160" y="642960"/>
            <a:ext cx="2071800" cy="10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s://eg.msr.mosreg.ru/files/image/05/18/54/lg!drq.jpg"/>
          <p:cNvPicPr/>
          <p:nvPr/>
        </p:nvPicPr>
        <p:blipFill>
          <a:blip r:embed="rId5"/>
          <a:stretch/>
        </p:blipFill>
        <p:spPr>
          <a:xfrm>
            <a:off x="2071800" y="4714920"/>
            <a:ext cx="5000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1000080" y="1447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2 ноября 2021г. отменена обязанность изда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о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357120" y="107172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2.11.2021 N 377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7120" y="157500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формления приема на работу достаточно только трудового договора. Если работодатель решит издать приказ, его содержание должно соответствовать догов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6" descr="km0100.jpg"/>
          <p:cNvPicPr/>
          <p:nvPr/>
        </p:nvPicPr>
        <p:blipFill>
          <a:blip r:embed="rId3"/>
          <a:stretch/>
        </p:blipFill>
        <p:spPr>
          <a:xfrm>
            <a:off x="2286000" y="3357720"/>
            <a:ext cx="50720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1214280" y="216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апреля 2022 года установлены правила предоставления отсрочки от службы в армии для работников ИТ-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285840" y="114300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28.03.2022 N 4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57120" y="179208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смогут получ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ускники вузов п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определенным специальностя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стажем работы в ИТ-компаниях не менее 11 месяцев в течение года, предшествующего дате начала призыва, и возрастом до 27 лет. Получить ее смогут и те, кто проработал меньше этого срока, но за год до трудоустройства в такую организацию окончил в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загружено (1).jpg"/>
          <p:cNvPicPr/>
          <p:nvPr/>
        </p:nvPicPr>
        <p:blipFill>
          <a:blip r:embed="rId5"/>
          <a:stretch/>
        </p:blipFill>
        <p:spPr>
          <a:xfrm>
            <a:off x="2357280" y="3929040"/>
            <a:ext cx="4137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эмблема.png"/>
          <p:cNvPicPr/>
          <p:nvPr/>
        </p:nvPicPr>
        <p:blipFill>
          <a:blip r:embed="rId1"/>
          <a:stretch/>
        </p:blipFill>
        <p:spPr>
          <a:xfrm>
            <a:off x="357120" y="214200"/>
            <a:ext cx="500040" cy="51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1071720" y="2178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апреля по 31 декабря 2022 года работодатели, которые приостановили деятельность, могут перевести сотрудников в други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28760" y="12859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тельства РФ от 30.03.2022 N 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28760" y="179568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занятост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редложи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трудникам временный перевод на профильные вакансии после того, как получит сведения о приостановке деятельности. Другие работодатели с такими кандидатами смогут заключить срочные трудовые договоры. Их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разрешили продле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ксимум до 31 декабря, если на постоянном месте руководство не про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ервоначальных трудовых договоров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приостанавли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переводов, но их срок продолжает т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H:\1.1.Семинары 2022г\2. Семинары по трудовому законодат. 2022г\4. Выездной семинар с активом САФУ\59395.jpg"/>
          <p:cNvPicPr/>
          <p:nvPr/>
        </p:nvPicPr>
        <p:blipFill>
          <a:blip r:embed="rId6"/>
          <a:stretch/>
        </p:blipFill>
        <p:spPr>
          <a:xfrm>
            <a:off x="1714680" y="4357800"/>
            <a:ext cx="5715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3T10:06:11Z</dcterms:created>
  <dc:creator>Glavspec</dc:creator>
  <dc:description/>
  <dc:language>en-US</dc:language>
  <cp:lastModifiedBy>Zampred</cp:lastModifiedBy>
  <dcterms:modified xsi:type="dcterms:W3CDTF">2022-05-26T07:45:20Z</dcterms:modified>
  <cp:revision>58</cp:revision>
  <dc:subject/>
  <dc:title>Слайд 1</dc:title>
</cp:coreProperties>
</file>