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18.wmf" ContentType="image/x-wmf"/>
  <Override PartName="/ppt/media/image13.jpeg" ContentType="image/jpeg"/>
  <Override PartName="/ppt/media/image4.png" ContentType="image/png"/>
  <Override PartName="/ppt/media/image2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0390-A862-40E5-905A-91B09F4AFB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A32D-404A-4230-8738-328A555CE8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6B6F-867F-43CD-9DCB-6319228864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4E76-B13E-4AE4-B4E2-9ABABD3044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53A-4C66-4898-BFC3-DA21107F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B46-92C5-4334-B68C-F2C5849F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C644-8C83-402F-8C86-7B2421B2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9BB-FD67-4E07-B47A-AF891FAB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B219-002E-4C4D-AF66-43ED613D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5C10-6B11-4C9A-ACDE-AC4ACF21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DD3A-1F6D-4942-82E1-89FBEDE6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F2AF-EA7A-4B32-BBE9-51D21C3B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F558-3D43-41A8-924E-04B6797E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A4F7-6FDB-4288-A638-DE26652A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E379-514F-4A29-BA24-8C80B636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4B25-CC57-4B01-B0EF-8F7AFA93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345E-448E-4B97-B0F6-64AD23A7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9465-765F-49DC-B5AE-F4805124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A16B-9F9B-4C11-BD4C-FF9C9B58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FBD0-CF04-499D-9B18-E9E12104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6F99-E7B7-48F2-8C5B-878B7882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624-A8E4-470C-9001-E7EF0F32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181-0EBF-4FEB-91A5-4B2C50F1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6FD-EDAA-4AB7-B8B1-970ADA71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25D-7438-4EA9-A4F4-A15F26F9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76CA-B6E3-4BCD-AABD-70DB2DFC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1FE-07C1-4F7B-8B22-54A20B0D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DABE-AE97-4FF5-ADBB-C2D8FC43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84D2-189C-4BC6-87F6-E1160C6D7F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D10D-86A3-4710-85CB-E130996D41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401279&amp;dst=100010&amp;field=134&amp;date=20.05.2022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355882&amp;dst=100070&amp;field=134&amp;date=20.05.2022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401279&amp;dst=100015&amp;field=134&amp;date=20.05.2022" TargetMode="External"/><Relationship Id="rId3" Type="http://schemas.openxmlformats.org/officeDocument/2006/relationships/hyperlink" Target="https://login.consultant.ru/link/?req=doc&amp;base=LAW&amp;n=401279&amp;dst=100012&amp;field=134&amp;date=20.05.2022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468360" y="189000"/>
            <a:ext cx="815760" cy="1076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1378080" y="2148120"/>
            <a:ext cx="677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бочее мест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нятие и требования законодательст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его  безопас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563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хангельская межрегиональная организация профессионального союза работников народного образования и науки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3446640" y="5499000"/>
            <a:ext cx="5427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ститель председателя Архангельской межрегиональной организации профсоюз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авный правовой инспектор труд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В. Плотнико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7" descr="p29432_NRKwW1.jpg"/>
          <p:cNvPicPr/>
          <p:nvPr/>
        </p:nvPicPr>
        <p:blipFill>
          <a:blip r:embed="rId2"/>
          <a:stretch/>
        </p:blipFill>
        <p:spPr>
          <a:xfrm>
            <a:off x="285840" y="4000680"/>
            <a:ext cx="3857400" cy="2573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F:\1.1.Семинары 2022г\1. Семинары по ОХРАНЕ ТРУДА 2022\Картинки к презентациям по охр. труда\images (1).png"/>
          <p:cNvPicPr/>
          <p:nvPr/>
        </p:nvPicPr>
        <p:blipFill>
          <a:blip r:embed="rId3"/>
          <a:stretch/>
        </p:blipFill>
        <p:spPr>
          <a:xfrm>
            <a:off x="6875640" y="189000"/>
            <a:ext cx="20174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250920" y="189000"/>
            <a:ext cx="707760" cy="8683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" descr="Методическая поддержка цифрового дополнительного образования детей в  условиях повышенной готовности ⋆"/>
          <p:cNvPicPr/>
          <p:nvPr/>
        </p:nvPicPr>
        <p:blipFill>
          <a:blip r:embed="rId2"/>
          <a:stretch/>
        </p:blipFill>
        <p:spPr>
          <a:xfrm>
            <a:off x="5357880" y="4214880"/>
            <a:ext cx="3166920" cy="17143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3" descr="88825.jpg"/>
          <p:cNvPicPr/>
          <p:nvPr/>
        </p:nvPicPr>
        <p:blipFill>
          <a:blip r:embed="rId3"/>
          <a:stretch/>
        </p:blipFill>
        <p:spPr>
          <a:xfrm>
            <a:off x="642960" y="3786120"/>
            <a:ext cx="4017960" cy="24289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57120" y="1167840"/>
            <a:ext cx="8215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аботодатели и первичные профсоюзные организаци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беспечивают разработку порядка и условий выполнения работниками своих трудовых функций в дистанционном режим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 т.ч. положения об обеспечении работников автоматизированным рабочим местом, оснащенным комплектом оборудования для видео - конференц – связ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елью реализации указанного условия Соглашения важно каждой первичной профсоюзной организации ГОУ АО выйти с этой инициативой к работодател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461840" y="14508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1500120" y="285840"/>
            <a:ext cx="70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ответствии с п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5.1.2. Архангельского областного отраслевого Соглаш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179280" y="0"/>
            <a:ext cx="779400" cy="10573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428760" y="759240"/>
            <a:ext cx="810396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 можно выделить среди них следующие треб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к </a:t>
            </a:r>
            <a:r>
              <a:rPr b="1" lang="ru-RU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рабочей поз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 средствам отображения информации и знакам безопас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 размещению (машин, механизмов) оборудова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к расположению рабочих ме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1500120" y="285840"/>
            <a:ext cx="72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есть требования к организации рабочего мест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F:\1.1.Семинары 2022г\1. Семинары по ОХРАНЕ ТРУДА 2022\Картинки к презентациям по охр. труда\images (1).jpg"/>
          <p:cNvPicPr/>
          <p:nvPr/>
        </p:nvPicPr>
        <p:blipFill>
          <a:blip r:embed="rId2"/>
          <a:stretch/>
        </p:blipFill>
        <p:spPr>
          <a:xfrm>
            <a:off x="4857840" y="3645000"/>
            <a:ext cx="4106880" cy="29527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611280" y="3860640"/>
            <a:ext cx="417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бования установлены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с 01.03.2022г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казом Минтруда России от 29.10.2021 № 774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Об утверждении общих требований к организации безопасного рабочего места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соответствии с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тью 7 статьи 209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К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357120" y="1211400"/>
            <a:ext cx="4214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. Обследование рабочих мест работников, в ходе котор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ряется как соблюдены требования к организации безопасного рабочего места, установленны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казом Минтруда России от 29.10.2021 № 774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1652760" y="214200"/>
            <a:ext cx="73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Что нужно сделать для проверки безопасности рабочих мес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Скупка компьютерных офисов"/>
          <p:cNvPicPr/>
          <p:nvPr/>
        </p:nvPicPr>
        <p:blipFill>
          <a:blip r:embed="rId1"/>
          <a:stretch/>
        </p:blipFill>
        <p:spPr>
          <a:xfrm>
            <a:off x="4932360" y="785880"/>
            <a:ext cx="3902040" cy="307188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6"/>
          <p:cNvSpPr/>
          <p:nvPr/>
        </p:nvSpPr>
        <p:spPr>
          <a:xfrm>
            <a:off x="428760" y="4071960"/>
            <a:ext cx="828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. Зафиксируйте проверку рабочих мест акт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ажите в нем выявленные нарушения и недостатки, планируемые мероприятия по устранению нарушений, ответственного исполнителя и сроки. Заслушайте мнение работника, его жалобы и предложения. Оцените безопасность его труда. Наличие необходимого оборудования на рабочем месте (автоматизированное рабочее место учителя), его исправ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8" descr="Рисунок1.tif"/>
          <p:cNvPicPr/>
          <p:nvPr/>
        </p:nvPicPr>
        <p:blipFill>
          <a:blip r:embed="rId2"/>
          <a:stretch/>
        </p:blipFill>
        <p:spPr>
          <a:xfrm>
            <a:off x="179280" y="0"/>
            <a:ext cx="779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357120" y="3228840"/>
            <a:ext cx="8358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ник должен устойчиво стоять и свободно двигаться на рабочем месте или в рабочей зо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низьте до минимума продолжительность работы в позах, которые вызывают утомляемость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рабочие позы, которые связаны с наклоном или поворотом туловища, с поднятыми выше уровня плеч руками, с неудобным стесненным размещением ног, с необходимостью держать руки на весу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же это позы, где пульт управления или рабочие поверхности оборудования находятся вне пределов максимальной досягаемости рук работника либо работник их плохо види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нужденные рабочие поз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же приводят к утомляемости – в положениях «лежа», «на коленях», «на корточках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1000080" y="142920"/>
            <a:ext cx="76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). Обратите внимание на 6 контрольных точек при провер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чего мес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4"/>
          <p:cNvSpPr/>
          <p:nvPr/>
        </p:nvSpPr>
        <p:spPr>
          <a:xfrm>
            <a:off x="468360" y="100008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Рабочая поз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рьте рабочую позу работников на каждом рабочем мес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работника должна быт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озможность поменять рабочую поз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ример, работник работает в положении «стоя», при этом ему нужно организовать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сто для сидения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чтобы сменить поз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Title"/>
          <p:cNvPicPr/>
          <p:nvPr/>
        </p:nvPicPr>
        <p:blipFill>
          <a:blip r:embed="rId1"/>
          <a:stretch/>
        </p:blipFill>
        <p:spPr>
          <a:xfrm>
            <a:off x="5500800" y="857160"/>
            <a:ext cx="3333600" cy="25005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6" descr="Рисунок1.tif"/>
          <p:cNvPicPr/>
          <p:nvPr/>
        </p:nvPicPr>
        <p:blipFill>
          <a:blip r:embed="rId2"/>
          <a:stretch/>
        </p:blipFill>
        <p:spPr>
          <a:xfrm>
            <a:off x="179280" y="260280"/>
            <a:ext cx="64764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395280" y="658800"/>
            <a:ext cx="820908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. !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ображ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нформации и знаки безопас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рьте, видит ли работник с рабочего места визуальные средства отображения информации и знаки безопасности. Такие средства должны освеща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О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борудование, его размещение и безопасность работ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особое вним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чебным мастерским, кабинетам технологии, спортивным залам, бассейнам, спортивным площадкам  и их оборудованию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!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ые риски и знаки безопас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означьте сигнальной разметкой или знаками безопасности участки и зоны, где установили высокую вероятность травмирования работников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роятность определите во время оценки проф. рисков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полнительно информируйте работников об опасностях любыми способами, которые предусмотрены системой управления охраной труда (СУОТ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Аварийные ситу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 пути эвакуации работ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обучающихся. Освободите прох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движения, обозначьте указателям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рьте их освещен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3"/>
          <p:cNvSpPr/>
          <p:nvPr/>
        </p:nvSpPr>
        <p:spPr>
          <a:xfrm>
            <a:off x="1285920" y="142920"/>
            <a:ext cx="72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Шесть контрольных точек при проверке рабочего мес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Картинки по запросу контроль"/>
          <p:cNvPicPr/>
          <p:nvPr/>
        </p:nvPicPr>
        <p:blipFill>
          <a:blip r:embed="rId1"/>
          <a:stretch/>
        </p:blipFill>
        <p:spPr>
          <a:xfrm>
            <a:off x="4788000" y="5143680"/>
            <a:ext cx="3816360" cy="14540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" descr="Рисунок1.tif"/>
          <p:cNvPicPr/>
          <p:nvPr/>
        </p:nvPicPr>
        <p:blipFill>
          <a:blip r:embed="rId2"/>
          <a:stretch/>
        </p:blipFill>
        <p:spPr>
          <a:xfrm>
            <a:off x="250920" y="0"/>
            <a:ext cx="7077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57120" y="519120"/>
            <a:ext cx="82868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Запрет на работу в опасных условиях (4-й клас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рет не касается работ из перечня, утвержденног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поряжением Правительства РФ от 04.12.2021 № 3455-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«О перечне работ, на которые не распространяется запрет, установленны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. 214.1 ТК РФ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гласно перечню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пасных условиях можно выполня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8 видов рабо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 том числе: аварийно-спасательные работы, работы по предупреждению ЧС, по локализации и ликвидации последствий аварий, по профилактике и тушению пожа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ВАЖНО ПОМНИТЬ!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время приостановки работы за работниками сохраните место работы и средний заработо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ника с его согласия можно перевести на другую работу с оплатой труда по выполняемой работе, но не ниже среднего заработка по прежней работе (ст. 216.1 ТК РФ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Рисунок 3" descr="image"/>
          <p:cNvPicPr/>
          <p:nvPr/>
        </p:nvPicPr>
        <p:blipFill>
          <a:blip r:embed="rId1"/>
          <a:stretch/>
        </p:blipFill>
        <p:spPr>
          <a:xfrm>
            <a:off x="2214720" y="5516640"/>
            <a:ext cx="4357440" cy="134136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4"/>
          <p:cNvSpPr/>
          <p:nvPr/>
        </p:nvSpPr>
        <p:spPr>
          <a:xfrm>
            <a:off x="1357200" y="28584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Шесть контрольных точек при проверке рабочего мес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знак ТИТ_11"/>
          <p:cNvPicPr/>
          <p:nvPr/>
        </p:nvPicPr>
        <p:blipFill>
          <a:blip r:embed="rId2"/>
          <a:stretch/>
        </p:blipFill>
        <p:spPr>
          <a:xfrm>
            <a:off x="324000" y="0"/>
            <a:ext cx="8856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285840" y="933120"/>
            <a:ext cx="8572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внепланового инструктажа по охране труда со всеми работникам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ано н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ых законодательных требованиях, в т.ч. к содержанию инструкций по охране тру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2.1.6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Порядка обучения по охране труда и проверки знаний требований охраны труда работников организаций», утвержденного Постановлением Минтруда России, Минобразования России от 13.01.2003 № 1/29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неплановый инструктаж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ника на рабочем месте проводи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епосредственный руководитель рабо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которы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еред проведением инструктаж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должен пройти внеочередное обучение по охране труд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проверку знаний по новым требованиям законодатель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Для проведения внепланового инструктаж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иказом работодателя утверждается Программ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 котор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ражаются требования нового раздела X ТК РФ и  иных правовых актов Минтруда Росс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1438200" y="214200"/>
            <a:ext cx="55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ведение внепланового инструктаж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Картинки по запросу улучшения"/>
          <p:cNvPicPr/>
          <p:nvPr/>
        </p:nvPicPr>
        <p:blipFill>
          <a:blip r:embed="rId1"/>
          <a:stretch/>
        </p:blipFill>
        <p:spPr>
          <a:xfrm>
            <a:off x="2571840" y="5357880"/>
            <a:ext cx="3960720" cy="1152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знак ТИТ_11"/>
          <p:cNvPicPr/>
          <p:nvPr/>
        </p:nvPicPr>
        <p:blipFill>
          <a:blip r:embed="rId2"/>
          <a:stretch/>
        </p:blipFill>
        <p:spPr>
          <a:xfrm>
            <a:off x="250920" y="0"/>
            <a:ext cx="720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" descr="Безимени-2 копия.png"/>
          <p:cNvPicPr/>
          <p:nvPr/>
        </p:nvPicPr>
        <p:blipFill>
          <a:blip r:embed="rId1"/>
          <a:stretch/>
        </p:blipFill>
        <p:spPr>
          <a:xfrm>
            <a:off x="285840" y="142920"/>
            <a:ext cx="473040" cy="4824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1042920" y="7876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кончании инструктажа проведит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ную проверку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11" descr="Журналы по охране труда (Комплект 6 журналов)&amp;quot; купить | ISBN 1236-1 |  Лабиринт"/>
          <p:cNvPicPr/>
          <p:nvPr/>
        </p:nvPicPr>
        <p:blipFill>
          <a:blip r:embed="rId2"/>
          <a:stretch/>
        </p:blipFill>
        <p:spPr>
          <a:xfrm>
            <a:off x="6786720" y="1143000"/>
            <a:ext cx="2095200" cy="239076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8"/>
          <p:cNvSpPr/>
          <p:nvPr/>
        </p:nvSpPr>
        <p:spPr>
          <a:xfrm>
            <a:off x="500040" y="1305000"/>
            <a:ext cx="635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* Зарегистрируйт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внепланового инструктажа в журнале регистрации инструктаж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п. 2.1.3 «Порядка обучения по охране труда и проверки знаний требований охраны труда работников организаций», утвержденного Постановлением Минтруда России, Минобразования России от 13.01.2003 № 1/29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9"/>
          <p:cNvSpPr/>
          <p:nvPr/>
        </p:nvSpPr>
        <p:spPr>
          <a:xfrm>
            <a:off x="6084720" y="3645000"/>
            <a:ext cx="27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*Укажите в журнале дату проведения инструктажа, запись о его проведении с обязательными подписями инструктируемого и инструктирующего, сведения о причине его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13" descr="Выписка из журнала инструктажей по технике безопасности - Охрана труда"/>
          <p:cNvPicPr/>
          <p:nvPr/>
        </p:nvPicPr>
        <p:blipFill>
          <a:blip r:embed="rId3"/>
          <a:stretch/>
        </p:blipFill>
        <p:spPr>
          <a:xfrm>
            <a:off x="285840" y="2997360"/>
            <a:ext cx="5510160" cy="3671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знак ТИТ_11"/>
          <p:cNvPicPr/>
          <p:nvPr/>
        </p:nvPicPr>
        <p:blipFill>
          <a:blip r:embed="rId4"/>
          <a:stretch/>
        </p:blipFill>
        <p:spPr>
          <a:xfrm>
            <a:off x="250920" y="0"/>
            <a:ext cx="887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каз Федеральной службы по труду и занятости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от 01.02.2022г. №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тверждено 78 проверочных лист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писков контрольных вопросов за соблюдением трудового законодательства и нормативных требований по охране труд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ются только для плановых прове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ановление Правительства Российской Федерации от 10.03.2022г. №336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Об особенностях организации и осуществления государственного контроля (надзора), муниципального контрол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Важно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ановлен запрет на ряд плановых проверок  до 31.12.2022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F:\1.1.Семинары 2022г\1. Семинары по ОХРАНЕ ТРУДА 2022\Картинки к презентациям по охр. труда\depositphotos_79634622-stock-photo-presentation.jpg"/>
          <p:cNvPicPr/>
          <p:nvPr/>
        </p:nvPicPr>
        <p:blipFill>
          <a:blip r:embed="rId1"/>
          <a:stretch/>
        </p:blipFill>
        <p:spPr>
          <a:xfrm>
            <a:off x="1835280" y="4842000"/>
            <a:ext cx="5184720" cy="201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знак ТИТ_11"/>
          <p:cNvPicPr/>
          <p:nvPr/>
        </p:nvPicPr>
        <p:blipFill>
          <a:blip r:embed="rId2"/>
          <a:stretch/>
        </p:blipFill>
        <p:spPr>
          <a:xfrm>
            <a:off x="395280" y="189000"/>
            <a:ext cx="887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союз – это территория здоровья! Безопасность труда на каждом рабочем месте члена профсоюза – забота профсоюза и самого работника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а профсоюзов в области охраны труда определены 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удовым кодексом Российской Федерации ст. 37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техническая инспекция труда профсоюзов, уполномоченные лица по охране труда первичных профсоюзных организац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м законом от 12.01.1996 N 10-Ф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"О профессиональных союзах, их правах и гарантиях деятельности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татья 20. «Права профсоюзов в области охраны труда и окружающей среды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семи видами соглашени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рон социального партнерства (ст. 45 ТК РФ),  в том числе Федеральными, областными, муниципальными отраслевыми соглашен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ми договор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окальными нормативными актам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ых учрежде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знак ТИТ_11"/>
          <p:cNvPicPr/>
          <p:nvPr/>
        </p:nvPicPr>
        <p:blipFill>
          <a:blip r:embed="rId1"/>
          <a:stretch/>
        </p:blipFill>
        <p:spPr>
          <a:xfrm>
            <a:off x="142920" y="214200"/>
            <a:ext cx="571320" cy="793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F:\1.1.Семинары 2022г\1. Семинары по ОХРАНЕ ТРУДА 2022\Картинки к презентациям по охр. труда\images (2).jpg"/>
          <p:cNvPicPr/>
          <p:nvPr/>
        </p:nvPicPr>
        <p:blipFill>
          <a:blip r:embed="rId2"/>
          <a:stretch/>
        </p:blipFill>
        <p:spPr>
          <a:xfrm>
            <a:off x="4500720" y="5000760"/>
            <a:ext cx="3528720" cy="1571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F:\1.1.Семинары 2022г\1. Семинары по ОХРАНЕ ТРУДА 2022\Картинки к презентациям по охр. труда\images (1).png"/>
          <p:cNvPicPr/>
          <p:nvPr/>
        </p:nvPicPr>
        <p:blipFill>
          <a:blip r:embed="rId3"/>
          <a:stretch/>
        </p:blipFill>
        <p:spPr>
          <a:xfrm>
            <a:off x="857160" y="5000760"/>
            <a:ext cx="26766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250920" y="189000"/>
            <a:ext cx="792000" cy="8683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214200" y="1108440"/>
            <a:ext cx="864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Общие треб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организации безопасного рабочего места устанавливаются федеральным органом исполнительной власти, осуществляющим функции по выработке и реализации государственной политики и нормативно-правовому регулированию в сфере труда, с учетом мнения Российской трехсторонней комиссии по регулированию социально-трудовых отношений (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ение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209 ТК Р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ед. ФЗ № 311-ФЗ от 02.07.2021г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арактеристика условий труда на рабочем мест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дно из обязательных условий ТД!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точняющие сведеня о рабочем мест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уже дополнительное условие трудового догово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57 ТК РФ)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1143000" y="14292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чее мест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есто, где работник должен находиться или куда ему необходимо прибыть в связи с его работой и которое прямо или косвенно находится под контролем работодате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7" descr="images.jpg"/>
          <p:cNvPicPr/>
          <p:nvPr/>
        </p:nvPicPr>
        <p:blipFill>
          <a:blip r:embed="rId3"/>
          <a:stretch/>
        </p:blipFill>
        <p:spPr>
          <a:xfrm>
            <a:off x="2643120" y="5000760"/>
            <a:ext cx="37148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709640" y="2529000"/>
            <a:ext cx="54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лагодарим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5"/>
          <p:cNvPicPr/>
          <p:nvPr/>
        </p:nvPicPr>
        <p:blipFill>
          <a:blip r:embed="rId1"/>
          <a:stretch/>
        </p:blipFill>
        <p:spPr>
          <a:xfrm>
            <a:off x="684360" y="4581360"/>
            <a:ext cx="590400" cy="627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send_receive_256"/>
          <p:cNvPicPr/>
          <p:nvPr/>
        </p:nvPicPr>
        <p:blipFill>
          <a:blip r:embed="rId2"/>
          <a:stretch/>
        </p:blipFill>
        <p:spPr>
          <a:xfrm>
            <a:off x="611280" y="537372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307520" y="471960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www.arhoblprof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07960" y="5300640"/>
            <a:ext cx="22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profobr@atknet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7" descr="01"/>
          <p:cNvPicPr/>
          <p:nvPr/>
        </p:nvPicPr>
        <p:blipFill>
          <a:blip r:embed="rId3"/>
          <a:stretch/>
        </p:blipFill>
        <p:spPr>
          <a:xfrm>
            <a:off x="250920" y="26028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462456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719520" y="404640"/>
            <a:ext cx="53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хангельская межрегиональная организац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фессионального союза работников народно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ния и науки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714840" y="1494000"/>
            <a:ext cx="50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3000, г. Архангельск, пр. Ломоносова, 2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1" descr="shutterstock_9787348 копия"/>
          <p:cNvPicPr/>
          <p:nvPr/>
        </p:nvPicPr>
        <p:blipFill>
          <a:blip r:embed="rId4"/>
          <a:stretch/>
        </p:blipFill>
        <p:spPr>
          <a:xfrm>
            <a:off x="4211640" y="3208320"/>
            <a:ext cx="4932360" cy="36496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2"/>
          <p:cNvSpPr/>
          <p:nvPr/>
        </p:nvSpPr>
        <p:spPr>
          <a:xfrm>
            <a:off x="5626800" y="3645000"/>
            <a:ext cx="23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ед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(8-8182)65-52-9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мести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(8-8182)65-65-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Бухгалтерия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нформацион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тде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(88182)65-65-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Факс: (88182)65-65-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250920" y="189000"/>
            <a:ext cx="865080" cy="1008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1285920" y="214200"/>
            <a:ext cx="742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иями трудового договора работодатель гарантирует работнику безопасные условия труда на рабочем мест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.е., соответствующие требованиям охраны тр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т. 21, 22, 56, 216 ТК РФ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5" descr="p29432_NRKwW1.jpg"/>
          <p:cNvPicPr/>
          <p:nvPr/>
        </p:nvPicPr>
        <p:blipFill>
          <a:blip r:embed="rId2"/>
          <a:stretch/>
        </p:blipFill>
        <p:spPr>
          <a:xfrm>
            <a:off x="285840" y="1500120"/>
            <a:ext cx="3500280" cy="23353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b35175de2157d2c8278777b64fa03f88.jpg"/>
          <p:cNvPicPr/>
          <p:nvPr/>
        </p:nvPicPr>
        <p:blipFill>
          <a:blip r:embed="rId3"/>
          <a:stretch/>
        </p:blipFill>
        <p:spPr>
          <a:xfrm>
            <a:off x="285840" y="4000680"/>
            <a:ext cx="3524040" cy="26431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1441271653.jpg"/>
          <p:cNvPicPr/>
          <p:nvPr/>
        </p:nvPicPr>
        <p:blipFill>
          <a:blip r:embed="rId4"/>
          <a:stretch/>
        </p:blipFill>
        <p:spPr>
          <a:xfrm>
            <a:off x="4643280" y="1500120"/>
            <a:ext cx="3421080" cy="25653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p27705_vanwKH.jpg"/>
          <p:cNvPicPr/>
          <p:nvPr/>
        </p:nvPicPr>
        <p:blipFill>
          <a:blip r:embed="rId5"/>
          <a:stretch/>
        </p:blipFill>
        <p:spPr>
          <a:xfrm>
            <a:off x="4572000" y="4143240"/>
            <a:ext cx="35514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250920" y="189000"/>
            <a:ext cx="792000" cy="8683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428760" y="1022040"/>
            <a:ext cx="8286480" cy="59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ия тру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факторов производственной среды и трудового процесса, оказывающих влияние на работоспособность и здоровье работни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ые условия тру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овия труда, при которых воздействие на работающих вредных и (или) опасных производственных факторов исключено либо уровни воздействия таких факторов не превышают установленных норматив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рис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роятность причинения вреда жизни и (или) здоровью работника в результате воздействия на него вредного и (или) опасного производственного фактора при исполнении им своей трудовой функции с учетом возможной тяжести повреждения здоровья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226 ТК Р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жно! Обследование рабочих мест на соответствие их требованиям безопасности труда рекомендуется проводить одновременно с выявлением и оценкой профессиональных рис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1214280" y="214200"/>
            <a:ext cx="76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ия труда на рабочем месте – обязательное услов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удового договора (ст. 57 ТК РФ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каз Минтруда России от  31.01.2022 г. № 36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екомендации по классификации, обнаружению, распознаванию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описанию опасностей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каз № 36 содержит и рекоменд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именению методов идентификации опасностей, примеры классификаторов опасности, примерный перечень источников опасности, а также формы анкет для проведения осмотра рабочих мест и опроса работ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90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ный перечень профессиональных рисков и опасностей ДЛЯ УЧИТЕЛЯ ХИМ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олы, порезы, ожоги при работе с химическими реактивами и лабораторными принадлежностя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рмические ожоги при неаккуратном пользовании спиртовками и нагревании жидкос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равление парами или газами высокотоксичных химических вещест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90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142920" y="142920"/>
            <a:ext cx="6490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 время работы на учителя физкультуры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гут воздействовать следующие вредные производственные факторы: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рвно-психические перегрузки, эмоциональные перегрузки, умственное перенапряже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к травмы при выполнении упражнени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к поскальзывания на поверхности пола бассейн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lnSpc>
                <a:spcPct val="100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иск травмы при выполнении упражнений обучающими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ые риски и опасност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асность падения из-за потери равновесия, в том числе при спотыкании или поскальзыван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передвижении по скользким поверхностям или мокрым пола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lnSpc>
                <a:spcPct val="100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нарушение остроты зрения при недостаточной освещенности рабочего мес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lnSpc>
                <a:spcPct val="100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Calibri"/>
              </a:rPr>
              <a:t>Выделяются  4 основных разновидности уровней риска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зкий, умеренный, высокий и экстремальны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142920" y="142920"/>
            <a:ext cx="6490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179280" y="189000"/>
            <a:ext cx="779400" cy="8683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"/>
          <p:cNvSpPr/>
          <p:nvPr/>
        </p:nvSpPr>
        <p:spPr>
          <a:xfrm>
            <a:off x="500040" y="1312560"/>
            <a:ext cx="8286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контроля за состоянием условий труда на рабочих места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блюдением работниками требований охраны труда, а также за правильностью применения ими средств индивидуальной и коллективной защит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по охране тру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том числе обучение безопасным методам и приемам выполнения работ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по оказанию первой помощи пострадавшим на производств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по использованию (применению) средств индивидуальной защиты, инструктаж по охране труда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ировку на рабочем мест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ля определенных категорий работников) и проверку знания требований охраны труд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пециальной оценки условий труда (СОУТ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законодательств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специальной оценке условий труда (ФЗ № 426-ФЗ) и др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857160" y="21420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язанности работодате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охраны труда входи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. 214 ТК РФ в ред. ФЗ № 311 -ФЗ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ommunication Clipart - New Stock Communication Designs by Some Of the Best Online 3D Vector Illustrators Online - Page 6"/>
          <p:cNvPicPr/>
          <p:nvPr/>
        </p:nvPicPr>
        <p:blipFill>
          <a:blip r:embed="rId3"/>
          <a:stretch/>
        </p:blipFill>
        <p:spPr>
          <a:xfrm>
            <a:off x="3203640" y="5013360"/>
            <a:ext cx="3672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428760" y="189000"/>
            <a:ext cx="758520" cy="868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"/>
          <p:cNvSpPr/>
          <p:nvPr/>
        </p:nvSpPr>
        <p:spPr>
          <a:xfrm>
            <a:off x="357120" y="1069560"/>
            <a:ext cx="8572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ВОЕ!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Минтруда России от 29.10.2021 № 774н  «Об утверждении общих требований к организации безопасного рабочего места»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ющи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01.03.2022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774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ы требования к организации безопасных рабочих мест работодателями  для  работников на их рабочих мест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!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ее место, его оборудование и оснащение должны сохранять жизнь и здоровье работников при соблюдении ими государственных требований охраны труда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п. 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их требований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вое понятие ! Рабочая зо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ащенная необходимыми средствами производства часть рабочего места, в которой один работник или несколько работников выполняют сходные работы или технологические операц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п. 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х требований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1357200" y="214200"/>
            <a:ext cx="72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щие требования к организации безопасного рабочего мест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абочей зоны) установлен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3" descr="Рисунок1.tif"/>
          <p:cNvPicPr/>
          <p:nvPr/>
        </p:nvPicPr>
        <p:blipFill>
          <a:blip r:embed="rId1"/>
          <a:stretch/>
        </p:blipFill>
        <p:spPr>
          <a:xfrm>
            <a:off x="468360" y="189000"/>
            <a:ext cx="718920" cy="9144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928800" y="598320"/>
            <a:ext cx="7286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рабочем месте (рабочей зоне) должны учитываться требования к выполняемой работе в соответствии с государственными требованиями охраны тру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касается и размеров рабочего места (рабочей зоны), взаимного расположения органов управления, средств отображения информации, размещения вспомогательного оборудования и инструментов (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. 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их требований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по снижению до установленных предельно допустимых значений уровней воздействия (концентрации) вредных и (или) опасных производственных факторов надо принимать с учетом применения работниками средств индивидуальной и коллективной защиты (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. 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их требований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H:\1.1.Семинары 2022г\2. Семинары по трудовому законодат. 2022г\4. Выездной семинар с активом САФУ\Без названия.jpg"/>
          <p:cNvPicPr/>
          <p:nvPr/>
        </p:nvPicPr>
        <p:blipFill>
          <a:blip r:embed="rId2"/>
          <a:stretch/>
        </p:blipFill>
        <p:spPr>
          <a:xfrm>
            <a:off x="2627280" y="4714920"/>
            <a:ext cx="4608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20T09:56:32Z</dcterms:created>
  <dc:creator>Glavspec</dc:creator>
  <dc:description/>
  <dc:language>en-US</dc:language>
  <cp:lastModifiedBy>Zampred</cp:lastModifiedBy>
  <dcterms:modified xsi:type="dcterms:W3CDTF">2022-05-26T07:42:31Z</dcterms:modified>
  <cp:revision>22</cp:revision>
  <dc:subject/>
  <dc:title>Слайд 1</dc:title>
</cp:coreProperties>
</file>