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AD00-7D2D-4408-BA19-46213456BB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D608-39C2-42C7-B9DE-F6AA65B638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9AC-3B74-4592-9AE5-440EEAF9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26F-7F65-421F-AC05-3E920FD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4BC-2C0E-4DC2-9EB3-D6C02EF8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570-FC9F-4822-85DC-C65B4C2C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EBC8-B697-4E05-BEEE-F7183377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54AD-4ADA-413C-B6F2-C9346182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BB68-32A5-4365-BF8F-D0055F47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6687-0F7A-46CC-9D94-0F8DB597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A11D-A356-4541-9F03-BD6ED0BE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6B9A-8F6D-4B6E-AE3A-9869E5BA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A9A8-14B4-4287-8A70-6FAFC98D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3FD-03B3-49F3-AAA7-5415D7D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C2AF-0724-4D87-AA19-288425D2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25CD-49ED-4FDA-896C-DDD9454E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D0EB-60C0-4D0F-878E-32F28C0B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2F28-BABD-46F3-A9CE-9F2A90BD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535F-B084-4365-BB81-755C7C8D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741-E844-4581-AC4E-8923C216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68F-065B-436A-9715-E383A34C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F91-FA8E-4D17-841E-A10525FC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71A-D509-4811-B4F0-7669FF03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73A-8760-4BB1-889A-2BE343D8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3DC-09AE-467B-AFD8-96D19F06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A6E-CAFC-4697-9E60-071FD16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725F-7530-4FB1-9253-1CD406E20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12C-2A15-4E3C-A7AE-64DD81DB3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login.consultant.ru/link/?req=doc&amp;base=LAW&amp;n=391821&amp;dst=100014&amp;field=134&amp;date=16.09.2021" TargetMode="External"/><Relationship Id="rId3" Type="http://schemas.openxmlformats.org/officeDocument/2006/relationships/hyperlink" Target="https://login.consultant.ru/link/?req=doc&amp;base=LAW&amp;n=391821&amp;dst=100014&amp;field=134&amp;date=16.09.2021" TargetMode="External"/><Relationship Id="rId4" Type="http://schemas.openxmlformats.org/officeDocument/2006/relationships/hyperlink" Target="https://login.consultant.ru/link/?req=doc&amp;base=LAW&amp;n=212420&amp;date=16.09.2021" TargetMode="External"/><Relationship Id="rId5" Type="http://schemas.openxmlformats.org/officeDocument/2006/relationships/hyperlink" Target="https://login.consultant.ru/link/?req=doc&amp;base=LAW&amp;n=355882&amp;date=16.09.2021&amp;dst=100103&amp;field=134" TargetMode="External"/><Relationship Id="rId6" Type="http://schemas.openxmlformats.org/officeDocument/2006/relationships/hyperlink" Target="https://login.consultant.ru/link/?req=doc&amp;base=LAW&amp;n=355882&amp;date=16.09.2021&amp;dst=7&amp;field=134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357120" y="214200"/>
            <a:ext cx="816120" cy="1076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22680" y="1649520"/>
            <a:ext cx="896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кларирование  условий труда на рабочих места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оответствие государственным нормативным требовани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раны тру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, порядок подачи декларации в ГИТ, ведение реес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Deklaratsiya-SOUT.jpg"/>
          <p:cNvPicPr/>
          <p:nvPr/>
        </p:nvPicPr>
        <p:blipFill>
          <a:blip r:embed="rId2"/>
          <a:srcRect l="8824" t="4412" r="13240" b="0"/>
          <a:stretch/>
        </p:blipFill>
        <p:spPr>
          <a:xfrm>
            <a:off x="428760" y="3643200"/>
            <a:ext cx="3786120" cy="2738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3446640" y="5499000"/>
            <a:ext cx="5427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председателя Архангельской межрегиональной организации профсоюз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ый правовой инспектор труд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В. Плотнико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1280" y="142920"/>
            <a:ext cx="7607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хангельская межрегиональная организация профессионального союза работников народного образования и науки                            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0040" y="1164600"/>
            <a:ext cx="8215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естр вносятся свед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поступивших декларациях,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кращении их действ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отношении рабочих мест,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оторых с работниками произошли несчастные случаи на производств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за исключением несчастных случаев на производстве, произошедших по вине третьих лиц), или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ях, когда у работников выявлены профессиональные заболевания, при условии, что причиной таких несчастных случаев и профессиональных заболеваний явилось воздействие на работников вредных и (или) опасных факторов производственной среды и трудового процесса, либо в отношении работника и (или) на его рабочем месте выявлены в ходе проведения федерального государственного контроля (надзора) за соблюдением трудового законодательства и иных НПА, содержащих нормы трудового права, нарушения государственных нормативных требований охраны труда,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одержащихся в федеральных законах и иных НПА РФ, а также в случае наступления обстоятельств, указанных в пункте 5 Порядка № 426н, за исключением сведений, составляющих государственную или иную охраняемую законом тай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1214280" y="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сведения вносятся в реестр декларирования рабочих мес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428760" y="1151640"/>
            <a:ext cx="82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дения о декларации вносятся в реестр в течение 15 рабочих дней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о дня поступления декларации на бумажном носителе в ГИТ АО и НАО или получения заполненной и подписанной усиленной квалифицированной электронной подписью работодателя электронной формы декларации, размещенной на официальном сайте Федеральной службы по труду и занятости в информационно-телекоммуникационной сети "Интернет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285840"/>
            <a:ext cx="75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внесения сведений в реестр декларированных рабочих м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5" descr="depositphotos_333099988-stock-photo-document-in-russian-map-of.jpg"/>
          <p:cNvPicPr/>
          <p:nvPr/>
        </p:nvPicPr>
        <p:blipFill>
          <a:blip r:embed="rId2"/>
          <a:srcRect l="0" t="0" r="0" b="11636"/>
          <a:stretch/>
        </p:blipFill>
        <p:spPr>
          <a:xfrm>
            <a:off x="4572000" y="3429000"/>
            <a:ext cx="3948120" cy="25448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357120" y="3643200"/>
            <a:ext cx="407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е выявления факта недостоверности сведений, указанных в декларации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Т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чение 5 рабочих дней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 момента их выявления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ет внесение в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естр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си о прекращении действия декла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285840" y="1095840"/>
            <a:ext cx="8429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полное наименование юридического лица, подавшего декларац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место нахождения и место осуществления деятельности юридического лица, подавшего декларац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идентификационный номер налогоплательщика (ИНН) юридического лица, подавшего декларац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) основной государственный регистрационный номер юридического лица (ГРН), подавшего декларац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) полное наименование организации, проводившей СОУ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) перечень рабочих мест, в отношении которых подана декларация, с указанием индивидуального номера рабочего места, численности работников, занятых на данном рабочем мес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) реквизиты заключения эксперта организации, проводившей СОУТ, и (или) протокола (протоколов) проведения исследований (испытаний) и измерений вредных и (или) опасных производственных факторов, явившихся основанием для подачи деклар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) дата прекращения действия декларации (при наступлении обстоятельств, являющихся основанием прекращения действия декларации в соответствии с частью 5 статьи 11 Федерального закона от 28 декабря 2013 г. N 426-ФЗ "О специальной оценке условий труда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1357200" y="214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естре содержатся следующие свед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1071720" y="22392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дения, содержащиеся в реестре должны быть размещены на официальном сайте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Т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О и НАО  в информационно-телекоммуникационной сети "Интернет" и являются открытыми и общедоступными, за исключением сведений, относящихся к государственной и иной охраняемой законом тай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ОМИНАЕМ! На сайте организации размещаются утвержденные итоги проведения СО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4" descr="Opera Снимок_2022-05-20_094950_rostrud.gov.ru.png"/>
          <p:cNvPicPr/>
          <p:nvPr/>
        </p:nvPicPr>
        <p:blipFill>
          <a:blip r:embed="rId2"/>
          <a:stretch/>
        </p:blipFill>
        <p:spPr>
          <a:xfrm>
            <a:off x="1928880" y="2500200"/>
            <a:ext cx="6000840" cy="3956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"/>
          <p:cNvSpPr/>
          <p:nvPr/>
        </p:nvSpPr>
        <p:spPr>
          <a:xfrm>
            <a:off x="357120" y="12956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!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рабочих местах, указанных в декларации соответствия условий труд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овую СОУТ не требуется проводить, ес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не произошло событий, перечисленных в ч. 5 ст. 11 Закона N 426-ФЗ (не было несчастных случаев, не выявлено профзаболеваний и т.д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оснований для прекращения ее действия и на декларируемых рабочих местах сохранены прежние условия труда (ч. 4 ст. 8, ч. 4, 5 ст. 11 Закона N 426-ФЗ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357200" y="214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чимость работы по декларированию рабочих м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https://sdo.srspu.ru/pluginfile.php/15485/course/overviewfiles/scale_1200.jpg"/>
          <p:cNvPicPr/>
          <p:nvPr/>
        </p:nvPicPr>
        <p:blipFill>
          <a:blip r:embed="rId2"/>
          <a:stretch/>
        </p:blipFill>
        <p:spPr>
          <a:xfrm>
            <a:off x="4857840" y="3571920"/>
            <a:ext cx="4091040" cy="27147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5"/>
          <p:cNvSpPr/>
          <p:nvPr/>
        </p:nvSpPr>
        <p:spPr>
          <a:xfrm>
            <a:off x="285840" y="3571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!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кларирование рабочих мест – один из источников экономии средств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рганизации, которые могут быть использованы на проведение иных мероприятий по созданию безопасных условий и охраны тру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709640" y="252900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лагодарим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5"/>
          <p:cNvPicPr/>
          <p:nvPr/>
        </p:nvPicPr>
        <p:blipFill>
          <a:blip r:embed="rId1"/>
          <a:stretch/>
        </p:blipFill>
        <p:spPr>
          <a:xfrm>
            <a:off x="684360" y="4581360"/>
            <a:ext cx="590400" cy="62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send_receive_256"/>
          <p:cNvPicPr/>
          <p:nvPr/>
        </p:nvPicPr>
        <p:blipFill>
          <a:blip r:embed="rId2"/>
          <a:stretch/>
        </p:blipFill>
        <p:spPr>
          <a:xfrm>
            <a:off x="611280" y="53737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307520" y="47196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www.arhoblprof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07960" y="5300640"/>
            <a:ext cx="22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profobr@atknet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01"/>
          <p:cNvPicPr/>
          <p:nvPr/>
        </p:nvPicPr>
        <p:blipFill>
          <a:blip r:embed="rId3"/>
          <a:stretch/>
        </p:blipFill>
        <p:spPr>
          <a:xfrm>
            <a:off x="25092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462456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719520" y="404640"/>
            <a:ext cx="53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хангельская межрегиональная организа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ессионального союза работников народ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я и наук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128040" y="149400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3000, г. Архангельск, пр. Ломоносова, 2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1" descr="shutterstock_9787348 копия"/>
          <p:cNvPicPr/>
          <p:nvPr/>
        </p:nvPicPr>
        <p:blipFill>
          <a:blip r:embed="rId4"/>
          <a:stretch/>
        </p:blipFill>
        <p:spPr>
          <a:xfrm>
            <a:off x="4211640" y="3208320"/>
            <a:ext cx="4932360" cy="3649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2"/>
          <p:cNvSpPr/>
          <p:nvPr/>
        </p:nvSpPr>
        <p:spPr>
          <a:xfrm>
            <a:off x="5626800" y="3645000"/>
            <a:ext cx="23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ед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8-8182)65-52-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мест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8-8182)65-65-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ухгалтерия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формацион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тд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88182)65-65-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Факс: (88182)65-65-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571680" y="1235880"/>
            <a:ext cx="7929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деральный закон «О специальной оценке рабочих мест» от 28.12.2013г. № 426-ФЗ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часть 2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3 статьи 11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риказ Минтруда Росси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17.06.2021 N 406н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"О форме и Порядке подачи декларации соответствия условий труда государственным нормативным требованиям охраны труда, Порядке формирования и ведения реестра деклараций соответствия условий труда государственным нормативным требованиям охраны труда" (Зарегистрировано в Минюсте России 29.07.2021 N 6444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 публикации - офиц. интернет-портал правовой информаци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pravo.gov.ru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29.07.20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01.03.2022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 действия документ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ограничен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 марта 2028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огичный приказ Министерства труда и социальной защиты Российской Федерации от 7 февраля 2014 г. N 80н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нан утратившим силу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1 марта 2022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1500120" y="285840"/>
            <a:ext cx="578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вая основа декларирования рабочих мес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55160" y="145800"/>
            <a:ext cx="76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АЧИ ДЕКЛАРАЦИИ СООТВЕТСТВИЯ УСЛОВИЙ ТРУ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ЫМ НОРМАТИВНЫМ ТРЕБОВАНИЯМ ОХРАНЫ ТРУД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57120" y="1238400"/>
            <a:ext cx="8501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ядок определен Приложением N 2 к приказу Минтруда России от от 17 июня 2021 г. N 406н (далее приказ № 406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Декларация соответствия условий труд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сударственным нормативным требованиям охраны труда (далее - декларация)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яется юридическими лицам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далее - работодатель)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тношении рабочих мест, на которых вредные и (или) опасные факторы производственной среды и трудового процесс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 результатам осуществления идентификации потенциально вредных и (или) опасных производственных факторов не выявлены, а также условия труда на которых по результатам исследований (испытаний) и измерений вредных и (или) опасных производственных факторов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наны оптимальными или допустим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!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кларирование рабочих мест производится при условии, если вредные и опасные производственные факторы не выявлены и рабочие места признаны оптимальными или допустимыми*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В декларации указывают индивидуальные номера этих рабочих мест, которые не должны меняться, в том числе при необходимости проведения повторной или внеплановой СО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500040" y="1372320"/>
            <a:ext cx="82152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 Деклара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писывается руководителем юридического лица и заверяется печатью и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дается работодателем по форме согласно Приложению N 1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Приказу в территориальный орган Федеральной службы по труду и занятости (далее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ую инспекцию труда в Архангельской области и НАО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лично или направляется почтовым отправлением с описью вложения и уведомлением о вруче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Декларация может быть подана в форме электронного документ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писанного усиленной квалифицированной электронной подписью работодателя, посредством заполнения формы декларации на официальном сайте Федеральной службы по труду и занятости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ГИТ Архангельской области и НАО)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информационно-телекоммуникационной сети "Интернет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1725120" y="285840"/>
            <a:ext cx="47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ядок декларирования рабочих м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1725120" y="285840"/>
            <a:ext cx="47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ядок декларирования рабочих м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571680" y="1227960"/>
            <a:ext cx="7929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Декларация подается работодателем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 срок не позднее тридцати рабочих дней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о дня внесения сведений о результатах проведения специальной оценки условий труда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едеральную государственную информационную систему учета результатов проведения СОУТ в порядке, установленном ФЗ от 28.12.2013 г. N 426-ФЗ "О специальной оценке условий труда"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рабочих местах, в отношении которых подается декларация с учетом требований законодательства РФ о персональных данных и законодательства Российской Федерации о государственной и иной охраняемой законом тай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428760" y="1373400"/>
            <a:ext cx="82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е подач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кларации в отношении хотя бы одного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огичного рабочего мест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признанного таковым в соответствии с законодательством о специальной оценке условий труда, в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кларацию включаются сведения обо всех рабочих местах, аналогичных данному рабочему мес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поступлении декларации в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Т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О и НАО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бумажном носителе должностным лицом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Т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ответственным за прием и регистрацию деклараций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заполняется соответствующий раздел декларации "Сведения о регистрации декларации"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подаче декларации в электронном вид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анная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заполняется автоматически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учетом места нахождения рабочих мест, в отношении которых подается деклар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428920" y="28584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ядок декларирования рабочих м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357120" y="1301760"/>
            <a:ext cx="85010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анием является несоответствие декларации форме, предусмотренной Приложением N 1 к Приказу № 406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жно! Отказ в принятии декларации по иным основаниям не допускаетс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При наличии основания для отказа в принятии декларации, поданной на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мажном носител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Т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чение не более 10 рабочих дней со дня поступления декларации возвращает ее работодателю посредством почтовой связи с указанием причин возвр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е устранения оснований, послуживших отказу в принятии декларации, работодатель вправе повторно подать деклар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1571760" y="28584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ание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ля отказа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принятии декла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1006920" y="3240"/>
            <a:ext cx="79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а декла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ответствия условий труда государственным нормативным требования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раны труда установлена Приложением №1 пр. № 406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17" descr="LAW_391821.attach_LAW_391821_1_01.png"/>
          <p:cNvPicPr/>
          <p:nvPr/>
        </p:nvPicPr>
        <p:blipFill>
          <a:blip r:embed="rId2"/>
          <a:srcRect l="0" t="10982" r="0" b="10622"/>
          <a:stretch/>
        </p:blipFill>
        <p:spPr>
          <a:xfrm>
            <a:off x="1928880" y="928800"/>
            <a:ext cx="5151240" cy="57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500040" y="15073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ание: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. 11 Федерального закона от 28 декабря 2013 г. N 426-ФЗ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"О специальной оценке условий труда" с применением стандартизированных технических и программных средств, позволяющих осуществлять обработку информации на основе использования единых форматов и стандартных протоколов и с соблюдением требований, установленных законодательством РФ в области информации, информационных технологий и защиты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4" descr="Рисунок1.tif"/>
          <p:cNvPicPr/>
          <p:nvPr/>
        </p:nvPicPr>
        <p:blipFill>
          <a:blip r:embed="rId1"/>
          <a:stretch/>
        </p:blipFill>
        <p:spPr>
          <a:xfrm>
            <a:off x="285840" y="214200"/>
            <a:ext cx="601560" cy="7938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1143000" y="14292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рядок формирования и ведения реестра деклараций соответствия условий труда государственным нормативным требованиям охраны труда определен Приложением № 3 приказа № 4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6" descr="cckynk.png"/>
          <p:cNvPicPr/>
          <p:nvPr/>
        </p:nvPicPr>
        <p:blipFill>
          <a:blip r:embed="rId2"/>
          <a:stretch/>
        </p:blipFill>
        <p:spPr>
          <a:xfrm>
            <a:off x="714240" y="3714840"/>
            <a:ext cx="80726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20T06:06:03Z</dcterms:created>
  <dc:creator>Glavspec</dc:creator>
  <dc:description/>
  <dc:language>en-US</dc:language>
  <cp:lastModifiedBy>Zampred</cp:lastModifiedBy>
  <dcterms:modified xsi:type="dcterms:W3CDTF">2022-05-26T07:14:37Z</dcterms:modified>
  <cp:revision>16</cp:revision>
  <dc:subject/>
  <dc:title>Слайд 1</dc:title>
</cp:coreProperties>
</file>